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47EB-D8C7-4C5A-9B12-8299F3EE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EBF-0291-464F-97E5-94B1AC18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F91-9A6A-4BCF-896A-BB6FC927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2C9-E7C9-4315-8028-B1128E6F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BA6B-4EE4-44E5-8141-EE1A1763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C25D-E6B0-404B-88D3-6E8A6BBA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7A6A-58F4-4640-911B-809B82E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4224-A6E3-466C-9116-823D1E14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7B7D-94CD-4E13-BF63-8262F941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62EE-4AF2-47B9-8914-2720CDF1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3887-E1A2-4D40-AF9D-07F5895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CCA-BA6C-4448-9833-82DCD448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EE4E-07D6-4486-9A66-7B051D3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E5D1-1A10-443B-A684-EE1D327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F43-4B4F-49C0-9258-D290D994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CFAE-53E1-4511-BA77-BA074FBB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1636-E23C-4B1E-9E81-DA111673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6ED-FE42-46C8-896C-81A690BD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E36-FEAD-4AC9-A0BB-055CE9BD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09E-D6C4-48A0-9BAD-0856AD49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3D1-A372-499C-B258-947019CE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784-B1CE-4754-98DB-C8CBC143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3A3-F62D-46EB-A543-72A9512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F4A-1DDC-4E36-996B-E47C89CA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EFA4-E25A-44A8-A220-F474CC212DF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D1D5-3F73-4506-9DF1-CA3635BC3C7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46160" y="1920960"/>
            <a:ext cx="8821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5605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3" descr="схема_1.bmp"/>
          <p:cNvPicPr/>
          <p:nvPr/>
        </p:nvPicPr>
        <p:blipFill>
          <a:blip r:embed="rId2"/>
          <a:stretch/>
        </p:blipFill>
        <p:spPr>
          <a:xfrm>
            <a:off x="420840" y="853920"/>
            <a:ext cx="8369280" cy="5534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Корректность программных средств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соответствие проверяемого объекта некоторому эталонному объекту или совокупности более или менее формализованных характеристик и прави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Корректность текстов программ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степень соответствия исходных текстов программ формализованным правилам языков спецификаций и программир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Конструктивная корректность модулей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соответствие им структуры общих правил структурного программирования и конкретным правилам оформления и внутренних построения программных модулей в данном заказ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Функциональная корректность модулей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корректность обработки исходных данных и получение результат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руктивная корректность данных определяется правилами их структурирования и упорядочи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ункциональная корректность данных связана в основном с конкретизацией их содержания в процессе использования программ, а также при подготовке данных внешним оппонент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руктивная корректность программных модулей определяется правилами структурного модульного построения программных комплексов и общими правилами организации межмодульных связ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составляющее может быть проверено формализованными автоматизированными метод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ункциональная корректность комплексов программ наиболее трудно формируется вследствие большого количества возможных эталонных значений и распредел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наиболее сложном случае, для программ реального времени, можно разделить н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ерминированную корректность – должно быть обеспечено однозначное соответствие исходных и результирующих программ определяющее эталонное значе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охастическую корректность  – статическое соответствие распределений и результирующих случайных величин заданным эталонным распределениям при соответствующих распределениях исходных данны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ческую корректность – это соответствие изменяющихся во времени результатов использования программ эталонным данны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Синтаксический контроль корректности текстов программ</a:t>
            </a:r>
            <a:r>
              <a:rPr b="1" i="1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проверка входного текста программы на соответствие синтаксису языка программир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Семантический контроль корректности текстов программ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проверка корректности применения и взаимодействия базовых конструкций языка программирования в тексте проверяемой программ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Формализованный структурный контроль программ основывается на статистической проверке соответствия структуры программы и последовательности основных операций использования памяти в системе эталонных прави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Верификация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(подтверждение правильности) состоит в проверке и доказательстве корректности разработанной программы по отношению к совокупности формальных утверждений представленных программных спецификаций и полностью определяющем связи между входными и выходными данными программ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60520"/>
          </a:xfrm>
          <a:prstGeom prst="rect">
            <a:avLst/>
          </a:prstGeom>
          <a:ln w="0">
            <a:noFill/>
          </a:ln>
        </p:spPr>
      </p:pic>
      <p:pic>
        <p:nvPicPr>
          <p:cNvPr id="87" name="Организационная диаграмма 39" descr=""/>
          <p:cNvPicPr/>
          <p:nvPr/>
        </p:nvPicPr>
        <p:blipFill>
          <a:blip r:embed="rId2"/>
          <a:stretch/>
        </p:blipFill>
        <p:spPr>
          <a:xfrm>
            <a:off x="450720" y="762120"/>
            <a:ext cx="8242560" cy="556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5112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"/>
          <p:cNvPicPr/>
          <p:nvPr/>
        </p:nvPicPr>
        <p:blipFill>
          <a:blip r:embed="rId2"/>
          <a:stretch/>
        </p:blipFill>
        <p:spPr>
          <a:xfrm>
            <a:off x="480960" y="1127160"/>
            <a:ext cx="8242200" cy="5187960"/>
          </a:xfrm>
          <a:prstGeom prst="rect">
            <a:avLst/>
          </a:prstGeom>
          <a:ln w="0">
            <a:noFill/>
          </a:ln>
        </p:spPr>
      </p:pic>
      <p:grpSp>
        <p:nvGrpSpPr>
          <p:cNvPr id="90" name="Группа 7"/>
          <p:cNvGrpSpPr/>
          <p:nvPr/>
        </p:nvGrpSpPr>
        <p:grpSpPr>
          <a:xfrm>
            <a:off x="6215040" y="5176800"/>
            <a:ext cx="1785960" cy="1181160"/>
            <a:chOff x="6215040" y="5176800"/>
            <a:chExt cx="1785960" cy="1181160"/>
          </a:xfrm>
        </p:grpSpPr>
        <p:sp>
          <p:nvSpPr>
            <p:cNvPr id="91" name="Скругленный прямоугольник 8"/>
            <p:cNvSpPr/>
            <p:nvPr/>
          </p:nvSpPr>
          <p:spPr>
            <a:xfrm>
              <a:off x="6215040" y="5214600"/>
              <a:ext cx="1785960" cy="1062360"/>
            </a:xfrm>
            <a:prstGeom prst="roundRect">
              <a:avLst>
                <a:gd name="adj" fmla="val 10000"/>
              </a:avLst>
            </a:prstGeom>
            <a:solidFill>
              <a:srgbClr val="6795c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Скругленный прямоугольник 4"/>
            <p:cNvSpPr/>
            <p:nvPr/>
          </p:nvSpPr>
          <p:spPr>
            <a:xfrm>
              <a:off x="6240240" y="5176800"/>
              <a:ext cx="173520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Отклонение от эталон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Группа 15"/>
          <p:cNvGrpSpPr/>
          <p:nvPr/>
        </p:nvGrpSpPr>
        <p:grpSpPr>
          <a:xfrm>
            <a:off x="5616720" y="5673240"/>
            <a:ext cx="555480" cy="153360"/>
            <a:chOff x="5616720" y="5673240"/>
            <a:chExt cx="555480" cy="153360"/>
          </a:xfrm>
        </p:grpSpPr>
        <p:sp>
          <p:nvSpPr>
            <p:cNvPr id="94" name="Стрелка вниз 16"/>
            <p:cNvSpPr/>
            <p:nvPr/>
          </p:nvSpPr>
          <p:spPr>
            <a:xfrm rot="16196400">
              <a:off x="5817960" y="5472000"/>
              <a:ext cx="152640" cy="555480"/>
            </a:xfrm>
            <a:prstGeom prst="downArrow">
              <a:avLst>
                <a:gd name="adj1" fmla="val 50000"/>
                <a:gd name="adj2" fmla="val 25811"/>
              </a:avLst>
            </a:prstGeom>
            <a:solidFill>
              <a:srgbClr val="69a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Стрелка вниз 4"/>
            <p:cNvSpPr/>
            <p:nvPr/>
          </p:nvSpPr>
          <p:spPr>
            <a:xfrm rot="5396400">
              <a:off x="5864040" y="5583240"/>
              <a:ext cx="604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615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00000" y="692280"/>
            <a:ext cx="7488360" cy="5832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718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71520" y="66600"/>
            <a:ext cx="8394480" cy="513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9" descr="схема_2.bmp"/>
          <p:cNvPicPr/>
          <p:nvPr/>
        </p:nvPicPr>
        <p:blipFill>
          <a:blip r:embed="rId2"/>
          <a:stretch/>
        </p:blipFill>
        <p:spPr>
          <a:xfrm>
            <a:off x="633240" y="493560"/>
            <a:ext cx="7944120" cy="6156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7:27:54Z</dcterms:created>
  <dc:creator>Sergei</dc:creator>
  <dc:description/>
  <dc:language>en-US</dc:language>
  <cp:lastModifiedBy>vpi31</cp:lastModifiedBy>
  <dcterms:modified xsi:type="dcterms:W3CDTF">2008-10-31T14:37:53Z</dcterms:modified>
  <cp:revision>30</cp:revision>
  <dc:subject/>
  <dc:title>Корректность программных средств</dc:title>
</cp:coreProperties>
</file>