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camera.wav" ContentType="audio/x-wav"/>
  <Override PartName="/ppt/media/image16.gif" ContentType="image/gif"/>
  <Override PartName="/ppt/media/image12.wmf" ContentType="image/x-wmf"/>
  <Override PartName="/ppt/media/image15.gif" ContentType="image/gif"/>
  <Override PartName="/ppt/media/image5.jpeg" ContentType="image/jpeg"/>
  <Override PartName="/ppt/media/image11.wmf" ContentType="image/x-wmf"/>
  <Override PartName="/ppt/media/image17.png" ContentType="image/png"/>
  <Override PartName="/ppt/media/image20.wmf" ContentType="image/x-wmf"/>
  <Override PartName="/ppt/media/image14.gif" ContentType="image/gif"/>
  <Override PartName="/ppt/media/image10.wmf" ContentType="image/x-wmf"/>
  <Override PartName="/ppt/media/image13.wmf" ContentType="image/x-wmf"/>
  <Override PartName="/ppt/media/image34.gif" ContentType="image/gif"/>
  <Override PartName="/ppt/media/image35.wmf" ContentType="image/x-wmf"/>
  <Override PartName="/ppt/media/image33.gif" ContentType="image/gi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44.wmf" ContentType="image/x-wmf"/>
  <Override PartName="/ppt/media/image4.jpeg" ContentType="image/jpeg"/>
  <Override PartName="/ppt/media/image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18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9.gif" ContentType="image/gif"/>
  <Override PartName="/ppt/media/image25.wmf" ContentType="image/x-wmf"/>
  <Override PartName="/ppt/media/image1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dt" idx="5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ftr" idx="5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 type="sldNum" idx="6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5A9-CDAC-4C04-9539-069F4A0B9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6B2-82F4-48DE-B6BB-2B4BDFE3E1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193-1451-4D04-9EEE-D63A87E489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8C04-D811-4ADC-83B0-453C9C0759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A749-B089-4FA5-8A93-05E060F6B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04D-6A24-4DA2-88A9-6720A43FFBE2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4D6A-82B2-441A-8A07-0CD6A4AC7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B38-6E17-4EFD-9EBF-8FB9D88F7C4D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C2A-C4B0-4779-AAC1-24D606B5D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7251-D20C-4487-A267-6CAB9CB9F917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D27-3D40-4705-AE53-72E5491BE1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CC79-D5CF-45A8-B392-4283880E2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2904-3AF8-46FF-864A-D65351AD3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991-A9B4-40F2-8572-F2AAE900D2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B9B-AC74-498C-9731-A00067E830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A61-F5CE-4B47-8FB9-F4C4A1BC3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4D0A-1B4C-4337-BBDD-240EE5867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DE53-FD53-44AF-8F96-316781E2D6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B41A-6953-4ADD-9C3C-0FAC0AD86AE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623-F551-4FE0-A177-745D663F0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1A9D-652C-40CA-A110-3A10E9FBA615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73A0-CAE6-47A8-9B93-1D093DC019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DA6-C2DF-4281-B247-1B14A410EE58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BEC4-5AD5-4E4B-A752-C19D1DDEDE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B55-FE7B-4204-841D-FA567011AE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01CD-40DB-4B8A-92F5-DB26AA919D1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232D-B198-4513-BC12-5F0AFEF653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E200-878D-4065-A539-5C385BC05FFA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A8FF-854E-4CBF-B05C-509D78F44D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6C1-CEC3-4030-9C39-E42FC01ADC4C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DB0B-8C16-4E13-ABC4-04335B78D6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38B-7EB3-46CE-B93C-C8FA59311B39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81C3-FDB1-4556-909F-4B42C20D1C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198-1F8F-4FDC-91F3-ED28ABBCA3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CFBA-3F50-4676-A9E1-0DD96444EB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023C-C4D3-47CC-AED0-157B1F3725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EF6-24FB-4BD4-A82B-31BC9FA7AD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9C3-168F-48CD-BDC0-A9D21B4DB9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7E3-8C82-4FDB-8F00-CFC566EF1D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51E-BE9B-476C-9DD5-069046F715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50CD-3B49-4730-A1A6-216A897473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B111-996E-4E95-AA4D-43A206024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D7F2-0195-466C-A9E2-B6D5CDE1A8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01FF-3346-4945-8608-B97CE8E23C39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A2E-5951-4512-93C5-C8CE95A84B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1F61-1152-4C8D-B471-67742E236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C6C-5B9D-4823-B2B4-7337AB3FD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A1D7-587D-4CC9-A897-244807325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F78-B6B6-4E9C-A1B6-5D06B9437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9B7-5916-4078-B78C-47150E5EB2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F62-78BD-45F9-A806-3D7D429223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D54D-F138-41CE-9AD2-8B5360613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187-8D3B-49FD-9D85-D3EED6591A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91B-E1C5-4240-82DC-FAE7DAAF592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2B8-D072-4058-8F70-E110AF6FD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D2B8-991E-4CEE-84DD-135F9D91DC4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EAC-D337-45B5-9348-65FC3C15F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2BB9-C94D-4968-A7E6-43F09F4BB2AB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6AF6-4AC4-4C37-84CA-6B9AC01F78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398600" y="38088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458640" y="3579840"/>
            <a:ext cx="601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1A87-E9D1-49DB-BD5C-FDD85AD9A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FBF-C70B-4A39-BB5F-B590AF4D19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DB0-B018-4E8F-8E72-9662C39C3B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3AC-A28C-41DF-A7E6-4B9A306D2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C530-7C16-44F7-A027-7B2DB45C3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5012-E636-462D-82C4-86D5D62C2A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60E1-6052-44C4-8500-B99FD29C88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E40-E884-4D13-B14E-D2BAF04C7493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F28-70BF-4C38-AADE-A8BA5296CC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FEC5-9ECC-414B-A436-D3956F0C3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3B8-85B5-4563-8317-5216E6857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B3E4-22C4-41C6-AE3C-2AB4B80D2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BF5-F79A-4185-8DF9-02C4106027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0ED-6D62-4774-B556-6F29608A3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628-F2D7-42EC-862F-33E976324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3F6-A65A-4461-89CE-29699AE2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A65-9B52-4E50-BF3D-3DAE7FF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2E244-0FEC-4A76-92C2-22A57D0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C2B3-CB7F-4B5C-AB41-9305EAC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6F549-769E-4B97-8AC2-547CD484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00EFD-894C-49C4-97BC-1EFE4BF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0AEC-53ED-418E-8B67-2258023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B4E2-6A04-481E-99F2-930D21D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BFAEE-A92E-40D6-BEC3-AC90CF75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77B2-8007-4B87-ABC4-CB1EDF16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91B8-E539-4979-A881-B5659115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52DD6-1898-4606-A678-233BF85C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034-5917-42FA-81F2-7262C83A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56F5F-CCC0-49E4-88C1-75A3B1CB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D96B-90EC-4F74-BECA-B66B2E8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44D31-1350-4179-8770-6A15AF38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960C0-11DA-4B26-B70B-10F4AB04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8EDBC-5A91-49BB-AA5D-80E3A3A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E2BC1-44D6-4E9F-8F42-01F5AC4D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FA1C4-0F76-4C99-8BD1-F5A40D7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DFA2E-18BF-4B1F-A40C-D1B7D6E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D674B-3FAA-4D23-8CA2-B622C3E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E3DA6-771E-4FB2-AEBB-3618548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E2F-43E7-4D1B-88C0-31EA3B26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8DEBB-9D1B-4EF2-A7AC-13127FD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1B093-719B-4117-A37F-C7C6065A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54BA3-AFCE-41FB-B93C-4476942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01E37-251C-4C7C-ACB0-CFD794F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914F4-F907-4D87-9EEE-0489821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9E334-AAA7-4682-9B22-086FE36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0B508-C9CF-4EE1-BF45-A2D6892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B334-7969-4E4A-BDE2-5664923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BBA69-FEE3-4713-8D93-F3FDCF23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51E1A-03A7-4339-864A-A7E707D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B33-891B-4CFD-A332-EC0C2DFA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EA6A6-8681-4A42-9687-77FE90AC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0C7F-9521-436E-A08E-9C7A6B3D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66F90-E6F0-40BE-8954-B9013FF1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1AA48-0548-486A-8661-2ACC0CA2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EDFCB-220B-4207-BEBE-6094834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C9112-7E9C-481F-8714-6B68EAF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FA70-7B21-41D9-99CA-A7EA4AC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43C6F-FBAC-47DF-8CBE-CFFBDEED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A933E-B488-45C3-A0C1-F538A788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005C-55B8-45C8-B962-90F22FB9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9048-C43C-46B9-8F0E-A73E0D1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C5D3B-14EE-4D02-BBCA-8F709E5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FF7E2-9610-46CF-90E1-8938421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E8AC3-2478-4C2A-85EF-76FBED8C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A7CFF-ACC6-44B4-B582-FE357941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7D787-2EFB-465E-A969-CD048977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F3BC5-1B64-4C8B-91CB-D5DDD997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88E80-2473-454F-BA21-C0DB670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6405D-9EA9-4C05-8549-CB2AF06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F6A55-45AA-46F7-9B88-9CF5305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64E6A-7A55-4AAE-B42D-15805314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FE6-A5E6-4165-A480-43AA873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CD9BC-136D-41B6-91BC-3C80CB9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BB9E1-0D68-46AC-8AC8-84E91B5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6FEFD-337E-40B2-A299-2B8B689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1CCA9-819D-4CB4-A7AF-0224509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31034-10DC-4E6F-99A4-632B0245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C7488-8DB4-4F4B-B08A-8CA0494D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61F9C-DC36-4DE3-B800-4EC8590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7D384-08E0-4F08-B8D2-FFDCA2C8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776C9-EF8B-4378-BA06-EF8769B4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397D4-049E-44DB-954A-DB6BD61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FFC-022B-4E5D-A52D-6F557933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AAC44-66EB-4607-AD78-56590F3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5F3DA-E3D4-4770-8659-28F4C15B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53423-83A8-4775-92A2-66F911C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1E605-3884-46B0-A483-DF4447C9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BFEEF-621A-4FFA-AB4B-A3EBBB3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45C61-F66F-441C-BE56-D63DD38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C30E8-5109-4D36-8B5C-AB443653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57C83-28DB-48FD-8E2F-3BCE4293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4D86F-D9D0-4DC4-9398-EF4BFBD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10F9D-F292-4E42-8E8D-82CB818C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084-32DF-49FF-A783-3F201799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9281E-8BD4-4B5F-8AB5-364D147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7A1DA-E9F1-42C4-86B9-8404ECCE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2EFF6-236D-4A83-BC8A-7733017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5981A-56E1-4D48-90BD-663E2BF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1A20F-4DD9-4ADB-8A25-CD9B05B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542EF-5261-4D46-ABBD-505A5FF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39C68-9187-41D0-98DC-D75FE04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B5C1C-1B88-4E08-9CCC-AE1D217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97974-85E2-4CFE-8412-C835B69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EBD9A-B724-4CCE-81BE-1C0EBEDD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387E-E56C-4801-9131-7B676819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231D8-1309-47E4-A60E-2F7E30E5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22B64-EFB8-4AD5-9666-126B0250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BAB62-6157-431F-9207-52A50B7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D1AD8-2D19-4088-A399-8CC53DC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0C3DC-22AC-43AB-A622-B206FA26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A26FC-5A93-4295-A4A0-909AC35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27B86-6C70-42C1-834E-BFBB485C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D6561-2A96-4602-91D5-C7A458E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E51F0-70AD-4F92-AA0E-5F1815A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4872E-97F6-4DE8-A5F0-2A366FF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9177-4BE2-45B4-9DB4-E663129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80AD0-5D8B-4000-9412-46C32B1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74C92-AFA2-4BD0-8626-4CDAD7B5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0A846-C9CB-4D9D-9F44-18664044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A187D-FB83-4CA3-B94E-D854F40F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F1C50-3B1A-4D14-9193-9D667A51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EF6A4-DA3C-4BE4-8485-374C871A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98EAE-4A52-4967-8C6A-2A09312B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088A3-F397-43E3-8212-5AABC5E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CC5AD-8006-4978-9368-2E58C8A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82281-9A53-4F1B-85F0-F2BD71C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A6D-98E7-461B-B55D-888205C0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D13F-7D70-4D92-A532-F031B75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E43D9-FB28-485C-B202-1F6F561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54301-5BDF-4818-B751-1DFBE6B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3E669-3A0C-4470-A22E-387F8368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B6F54-C3D0-43E6-AB2F-E7CD036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FEF14-D384-4EC5-B057-B4B2414D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A7F7B-9689-4755-A9DE-350E5001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02FD3-BEFB-4E0C-A875-9802FFC3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A1599-2D52-40B7-AECE-16CE9CC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F6D1B-5905-48E1-A01F-D75E1CD4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FDF95-1662-4E0C-9915-CED139E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A1A6-66DD-4DA8-B5DB-3902C92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668A9-0BAA-4866-BF31-3721349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BF791-C2EF-4E5D-A066-6B0194B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F9D92-EB85-4013-8074-63B34F9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24FEB-0028-48EF-BE1F-5614A52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FE3D1-5EC7-4A2C-AA9F-865AFD49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56A77-1E22-4AD4-B953-946E54EB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B7BD2-673C-407C-810F-37C933C3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DCE43-6EBA-4093-A8F0-4E5D78D7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0E6F5-7FD2-4207-93E9-CBA8638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38A4E-EA34-42D6-B0D2-8762C3D4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8D-DB79-4D5D-9173-6CEABC8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2AC78-F08C-4530-B668-876A0664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B44AF-B110-4F8F-A55E-F9A13D46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1AE04-4723-42C5-86A4-9A32D25F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E9306-FA28-4201-AE1C-7629A0E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00726-ED6E-42BB-9E69-76D1AA1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916D4-3232-4B4B-B716-F4C9563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03986-044A-4933-8C6F-697F7CF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8949E-1FEC-4DA2-9155-388B10A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0427A-B260-4057-93B8-CF912364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0C2-20F4-4CFF-9784-B4278D4E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17FA-60B3-4AEA-8B86-3FBD5901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AB7C-94E1-4784-89FE-AFF88BE2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7DFE-A293-4F01-B0F5-B63147E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AA4E-D038-4732-9CD8-FD520C1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F2A5-F699-4E66-B371-AA39E4BE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7485-A10E-47E8-B31A-E5AB08A8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F49-91FA-42A5-9E11-7A2ED3B4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A13D-B304-4DBA-9AA0-DBF0FA4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2A70-1786-4A3B-8BB2-EB09B2D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D81B-0DC9-43D2-A046-760BBC5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74895-6FA5-4942-9A30-BFA480B5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98C8-5F26-4927-B035-B9B53D8E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A0F1-3110-4308-8A22-CDAE6CBB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5C9C-B4C5-4617-884C-A4D9D28B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BA59-7BEF-42B4-B79A-4B5FC484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D401-F5F5-4E23-A8EB-BECEA95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8372-D0F1-42B2-BEAF-DBE41B7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618-F585-463E-9D4D-32D5061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A149-FC28-4C31-A785-F0158C6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07BE1-E64C-4F6D-B94D-B23CC9E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C87F-66AA-4B7D-A01B-581F770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8D45-A6A6-474D-9E6B-545E567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D12E-44A6-4E67-81D7-7FBE5E56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1787-88FF-4887-B609-E8AA372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9E1A-AC7A-4C70-8ED7-D2DE319C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19FB-13D9-4145-B8CC-0717AA5D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AC67-B87E-4AB1-985C-DBE4D07F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6CA8-1C3A-4D60-B86B-CA956E86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429-A21D-4828-A14B-8FFC3E8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A390-AEC4-4BEC-8174-5B7A428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2352-6401-4F3E-8810-6ACDBA2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9F91-EF08-4468-8E7D-B1A6DAB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0C41-AA98-4A7A-9189-6B7EC0B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11894-D66E-4F86-8546-695FBC22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B759-F163-45C8-9F20-1209401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A585-D992-42E8-98D1-3A1EC89C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E2A8C-4B2A-45C4-BA6E-9AEECA3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2BC6-FEB7-4ACC-A222-4071F16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F466-B130-48F8-970A-3F55964F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4DC-623F-48FE-BC78-F7FEE27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FF33-4F99-4B69-9462-9023CC7B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4395-781C-47F8-B5B3-764FBC74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953A-133B-4781-8283-755E7DC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E9C9-F1BE-445F-9DA3-0900590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A479-C271-4901-AEE0-B66A861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4A239-3585-46C6-B2FF-ED6FF6A0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12C0-2292-4F25-9660-32A213FF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8915-15DE-464D-B8F2-1FF4C0D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7738-CCF9-4295-A4B6-516BFD57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7544-D7A1-4F16-818A-D8978A96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E3A-F88C-407E-8C21-CD1715C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DF7A-7897-490E-ADB4-561CDB6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8FE2-0151-493B-BF9A-27F87072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875D0-CD1C-4D1D-BB6C-40F35AB8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ADFA7-187F-4E9F-98D4-1CA6F057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83A6-51E8-41A2-8667-8DFFD67C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68DA-3D40-4B50-B092-E31AFC55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27A2-766D-457D-A771-89A230F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09EA8-72C3-45CE-9417-AA492D6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4030-79B3-4138-8936-D514DEB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CF5F-5622-465C-9886-33B617C0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A62-94A4-4A76-9CE1-C0CED61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AAFF-4374-4340-941E-8BE0F43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F25F-0837-4568-8704-BF22289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5A194-65C4-46F5-9455-302286F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5C4A-7AE3-413D-9C99-36A739DD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99F6-1147-42D8-8613-679610DE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B822-E425-4358-9706-BC364D72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ACFE-6506-41BE-9AF0-94CADB36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8F7B-9BA5-4086-A078-A156D65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82764-D942-448E-85C1-A49EB4A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5D4D-17A9-4E43-BB2D-4569AD2E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1DC-E674-4078-8AC9-39079B2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3E19-174F-44B3-8749-3629159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6CB0-DCE7-4D1A-885C-2C4A7FB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893F-ACD4-4843-89A6-8B7D697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3B5E-EA62-461D-A2A5-EDBB90BA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8CAC-B7D5-477C-8033-A9B0DC59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D78D-E145-4422-A6FA-975FAF83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78E39-5E6D-41EA-8772-650709C7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A5814-CA1C-4DC0-8A14-C563F9AE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0888-CC48-4F97-A19C-EA369EE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41573-F04D-4957-92AD-AF0A2087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B84-115F-41D6-A732-797D1589EB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7C7-3C89-4BF5-9E71-856E505C01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64D-3699-4320-8603-4D35791E4F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A5D-A40C-4235-A769-1C3C915305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632A-0521-4E55-8983-1409AFD7B8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0D08-E87D-4C88-BEC1-E925C2113E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1A7-DED5-4253-A4F4-829F29DF30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EDA-94E1-4161-BC6B-95D942849B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852-6977-41CE-9F83-4E04CDE95E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918B-37D9-4348-8CFE-3FCFA85DC5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40F-EBB3-480E-8C77-FBC965E011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CD5-6010-475B-B8C7-E12775FF6F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6FFC-0867-4951-A2A5-5629399F0D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67BB-F03E-4C94-AC90-4A524E73D1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049-6253-4293-8CF3-284BA74746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8BDD-3089-429F-9718-9788470D18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FBE-4220-489E-8BDB-7B3FF071AB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0D4C-C09E-4BD2-9DC4-7CF28828A3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B15E-68A2-41EC-84D3-AACB308347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0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792468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Мониторинг и оценка </a:t>
            </a:r>
            <a:br>
              <a:rPr sz="4800"/>
            </a:b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проектов</a:t>
            </a: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и программ</a:t>
            </a:r>
            <a:br>
              <a:rPr sz="4800"/>
            </a:br>
            <a:br>
              <a:rPr sz="1400"/>
            </a:b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Номер слайда 5"/>
          <p:cNvSpPr/>
          <p:nvPr/>
        </p:nvSpPr>
        <p:spPr>
          <a:xfrm>
            <a:off x="42372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1C2-7472-4E9A-B45D-B2933CAE5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4920" y="1341360"/>
            <a:ext cx="8280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000" spc="-1" strike="noStrike">
                <a:solidFill>
                  <a:srgbClr val="404040"/>
                </a:solidFill>
                <a:latin typeface="Arial"/>
              </a:rPr>
              <a:t>Мониторинг</a:t>
            </a:r>
            <a:r>
              <a:rPr b="0" i="1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программы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– это вид оценки, который заключается в 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</a:rPr>
              <a:t> отслеживании хода программы и сравнении фактической ситуации с планом.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6C5-2E1F-478C-8114-79FF0DFA5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8" name="Object 3"/>
          <p:cNvGraphicFramePr/>
          <p:nvPr/>
        </p:nvGraphicFramePr>
        <p:xfrm>
          <a:off x="6443640" y="4292640"/>
          <a:ext cx="17398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292640"/>
                    <a:ext cx="1739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997B-7EB9-4D08-AE85-9C0F91009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2"/>
          <p:cNvSpPr/>
          <p:nvPr/>
        </p:nvSpPr>
        <p:spPr>
          <a:xfrm>
            <a:off x="1371600" y="1828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МОНИ</a:t>
            </a:r>
            <a:r>
              <a:rPr b="1" lang="en-US" sz="2800" spc="-1" strike="noStrike">
                <a:solidFill>
                  <a:srgbClr val="766f54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РИН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3"/>
          <p:cNvSpPr/>
          <p:nvPr/>
        </p:nvSpPr>
        <p:spPr>
          <a:xfrm>
            <a:off x="1447920" y="2590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дут д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4"/>
          <p:cNvSpPr/>
          <p:nvPr/>
        </p:nvSpPr>
        <p:spPr>
          <a:xfrm>
            <a:off x="4806000" y="2579760"/>
            <a:ext cx="3722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и что ?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Object 5"/>
          <p:cNvGraphicFramePr/>
          <p:nvPr/>
        </p:nvGraphicFramePr>
        <p:xfrm>
          <a:off x="1523880" y="3505320"/>
          <a:ext cx="173988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1739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6" name="Object 6"/>
          <p:cNvGraphicFramePr/>
          <p:nvPr/>
        </p:nvGraphicFramePr>
        <p:xfrm>
          <a:off x="6095880" y="3276720"/>
          <a:ext cx="1654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276720"/>
                    <a:ext cx="1654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8" name="Text Box 7"/>
          <p:cNvSpPr/>
          <p:nvPr/>
        </p:nvSpPr>
        <p:spPr>
          <a:xfrm>
            <a:off x="4800600" y="18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57200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851C-5283-4A97-9BDE-3F4FA0E8C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079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Определен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3814920" cy="4464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ahoma"/>
              </a:rPr>
              <a:t>Оценк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Измерение результатов и сопоставление их с задачами проек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Ценность, польза идея, замысел, проек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573520" y="1196640"/>
            <a:ext cx="3570120" cy="453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ahoma"/>
              </a:rPr>
              <a:t>Мониторин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Постоянное </a:t>
            </a:r>
            <a:r>
              <a:rPr b="1" lang="ru-RU" sz="2500" spc="-1" strike="noStrike">
                <a:solidFill>
                  <a:srgbClr val="404040"/>
                </a:solidFill>
                <a:latin typeface="Tahoma"/>
              </a:rPr>
              <a:t>наблюдение</a:t>
            </a: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 за ходом проекта (календарный план, результаты, стоимость и т.д.)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468360" y="5805360"/>
            <a:ext cx="8245440" cy="505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82a3b"/>
                </a:solidFill>
                <a:latin typeface="Tahoma"/>
                <a:ea typeface="Arial"/>
              </a:rPr>
              <a:t>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ED7-30A4-43D1-91D7-1BDD91D56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439092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Определ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105440" cy="5238720"/>
          </a:xfrm>
          <a:prstGeom prst="rect">
            <a:avLst/>
          </a:prstGeom>
          <a:solidFill>
            <a:srgbClr val="cc33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404040"/>
                </a:solidFill>
                <a:uFillTx/>
                <a:latin typeface="Tahoma"/>
              </a:rPr>
              <a:t>Оценка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Правиль</a:t>
            </a:r>
            <a:r>
              <a:rPr b="1" i="1" lang="ru-RU" sz="2300" spc="-1" strike="noStrike">
                <a:solidFill>
                  <a:srgbClr val="ffffff"/>
                </a:solidFill>
                <a:latin typeface="Tahoma"/>
              </a:rPr>
              <a:t>НЫЙ 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 проект?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На ключевых этапах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Анализ идеологи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 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нформация (результат оценки) - для принятия </a:t>
            </a: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стратегических решени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933440" y="1213920"/>
            <a:ext cx="4210200" cy="5256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404040"/>
                </a:solidFill>
                <a:uFillTx/>
                <a:latin typeface="Tahoma"/>
              </a:rPr>
              <a:t>Мониторинг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Правиль</a:t>
            </a:r>
            <a:r>
              <a:rPr b="1" i="1" lang="ru-RU" sz="2300" spc="-1" strike="noStrike">
                <a:solidFill>
                  <a:srgbClr val="ffffff"/>
                </a:solidFill>
                <a:latin typeface="Tahoma"/>
              </a:rPr>
              <a:t>НО</a:t>
            </a:r>
            <a:r>
              <a:rPr b="0" i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 реализуется?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Непрерывно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деология не меняетс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Факты сравниваются с планами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нформация (результат мониторинга) - для </a:t>
            </a: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оперативных решений </a:t>
            </a: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по проект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6E38-7256-4B9C-A39A-97242ABA3E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960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ВАЖНО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2158560" y="200016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Мониторинг/оценка </a:t>
            </a:r>
            <a:r>
              <a:rPr b="1" lang="ru-RU" sz="3400" spc="-1" strike="noStrike">
                <a:solidFill>
                  <a:srgbClr val="57286a"/>
                </a:solidFill>
                <a:latin typeface="Tahoma"/>
              </a:rPr>
              <a:t>зависят от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: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содержания деятельности,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потребностей руководства,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модели управления проектом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32" name="Picture 5" descr="j0320116"/>
          <p:cNvPicPr/>
          <p:nvPr/>
        </p:nvPicPr>
        <p:blipFill>
          <a:blip r:embed="rId1"/>
          <a:stretch/>
        </p:blipFill>
        <p:spPr>
          <a:xfrm>
            <a:off x="6407280" y="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Как узнать, достигнут ли запланированный результат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4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8A15-8CA6-4972-89C6-75EF3E796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2"/>
          <p:cNvGraphicFramePr/>
          <p:nvPr/>
        </p:nvGraphicFramePr>
        <p:xfrm>
          <a:off x="1066680" y="2895480"/>
          <a:ext cx="17686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1768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7" name="Line 4"/>
          <p:cNvSpPr/>
          <p:nvPr/>
        </p:nvSpPr>
        <p:spPr>
          <a:xfrm>
            <a:off x="243828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5"/>
          <p:cNvSpPr/>
          <p:nvPr/>
        </p:nvSpPr>
        <p:spPr>
          <a:xfrm>
            <a:off x="144792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6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7"/>
          <p:cNvSpPr/>
          <p:nvPr/>
        </p:nvSpPr>
        <p:spPr>
          <a:xfrm>
            <a:off x="19051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AutoShape 8"/>
          <p:cNvSpPr/>
          <p:nvPr/>
        </p:nvSpPr>
        <p:spPr>
          <a:xfrm>
            <a:off x="533520" y="2362320"/>
            <a:ext cx="685800" cy="533160"/>
          </a:xfrm>
          <a:prstGeom prst="wedgeEllipseCallout">
            <a:avLst>
              <a:gd name="adj1" fmla="val 120833"/>
              <a:gd name="adj2" fmla="val 197916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AutoShape 9"/>
          <p:cNvSpPr/>
          <p:nvPr/>
        </p:nvSpPr>
        <p:spPr>
          <a:xfrm>
            <a:off x="2362320" y="1981080"/>
            <a:ext cx="609480" cy="457200"/>
          </a:xfrm>
          <a:prstGeom prst="wedgeEllipseCallout">
            <a:avLst>
              <a:gd name="adj1" fmla="val -44532"/>
              <a:gd name="adj2" fmla="val 230902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10"/>
          <p:cNvSpPr/>
          <p:nvPr/>
        </p:nvSpPr>
        <p:spPr>
          <a:xfrm>
            <a:off x="457200" y="3352680"/>
            <a:ext cx="609480" cy="609840"/>
          </a:xfrm>
          <a:prstGeom prst="wedgeEllipseCallout">
            <a:avLst>
              <a:gd name="adj1" fmla="val 142189"/>
              <a:gd name="adj2" fmla="val 102083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AutoShape 11"/>
          <p:cNvSpPr/>
          <p:nvPr/>
        </p:nvSpPr>
        <p:spPr>
          <a:xfrm>
            <a:off x="1295280" y="1981080"/>
            <a:ext cx="609840" cy="457200"/>
          </a:xfrm>
          <a:prstGeom prst="wedgeEllipseCallout">
            <a:avLst>
              <a:gd name="adj1" fmla="val 53125"/>
              <a:gd name="adj2" fmla="val 22986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12"/>
          <p:cNvSpPr/>
          <p:nvPr/>
        </p:nvSpPr>
        <p:spPr>
          <a:xfrm>
            <a:off x="4038480" y="2286000"/>
            <a:ext cx="461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необходимо указ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емые характер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фак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совпа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планирован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результат достиг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6" name="AutoShape 13"/>
          <p:cNvCxnSpPr/>
          <p:nvPr/>
        </p:nvCxnSpPr>
        <p:spPr>
          <a:xfrm>
            <a:off x="3123720" y="2895120"/>
            <a:ext cx="2520" cy="16009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447" name="AutoShape 14"/>
          <p:cNvCxnSpPr/>
          <p:nvPr/>
        </p:nvCxnSpPr>
        <p:spPr>
          <a:xfrm>
            <a:off x="1447560" y="5105160"/>
            <a:ext cx="9910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448" name="Text Box 15"/>
          <p:cNvSpPr/>
          <p:nvPr/>
        </p:nvSpPr>
        <p:spPr>
          <a:xfrm>
            <a:off x="181476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6"/>
          <p:cNvSpPr/>
          <p:nvPr/>
        </p:nvSpPr>
        <p:spPr>
          <a:xfrm>
            <a:off x="2745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032-E480-4E3E-92C8-ADBDB6EE0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Индикатор – показатель, который служит средством измерения достижений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452" name="Group 2"/>
          <p:cNvGrpSpPr/>
          <p:nvPr/>
        </p:nvGrpSpPr>
        <p:grpSpPr>
          <a:xfrm>
            <a:off x="2396880" y="3056400"/>
            <a:ext cx="2155680" cy="1911960"/>
            <a:chOff x="2396880" y="3056400"/>
            <a:chExt cx="2155680" cy="1911960"/>
          </a:xfrm>
        </p:grpSpPr>
        <p:sp>
          <p:nvSpPr>
            <p:cNvPr id="1453" name="Rectangle 3"/>
            <p:cNvSpPr/>
            <p:nvPr/>
          </p:nvSpPr>
          <p:spPr>
            <a:xfrm>
              <a:off x="2590920" y="4508640"/>
              <a:ext cx="182880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гр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"/>
            <p:cNvSpPr/>
            <p:nvPr/>
          </p:nvSpPr>
          <p:spPr>
            <a:xfrm>
              <a:off x="2396880" y="3056400"/>
              <a:ext cx="2155680" cy="45972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а закип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5"/>
            <p:cNvSpPr/>
            <p:nvPr/>
          </p:nvSpPr>
          <p:spPr>
            <a:xfrm flipV="1">
              <a:off x="3505320" y="3504960"/>
              <a:ext cx="0" cy="99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6"/>
          <p:cNvSpPr/>
          <p:nvPr/>
        </p:nvSpPr>
        <p:spPr>
          <a:xfrm>
            <a:off x="1273680" y="510840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грев необходим для закипани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7"/>
          <p:cNvSpPr/>
          <p:nvPr/>
        </p:nvSpPr>
        <p:spPr>
          <a:xfrm>
            <a:off x="4727520" y="3016080"/>
            <a:ext cx="41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в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выше точки кип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8"/>
          <p:cNvSpPr/>
          <p:nvPr/>
        </p:nvSpPr>
        <p:spPr>
          <a:xfrm>
            <a:off x="4424040" y="2311560"/>
            <a:ext cx="43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Объектив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9"/>
          <p:cNvSpPr/>
          <p:nvPr/>
        </p:nvSpPr>
        <p:spPr>
          <a:xfrm>
            <a:off x="1374480" y="4448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0"/>
          <p:cNvSpPr/>
          <p:nvPr/>
        </p:nvSpPr>
        <p:spPr>
          <a:xfrm>
            <a:off x="1558800" y="298620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Мониторинг программы: </a:t>
            </a:r>
            <a:br>
              <a:rPr sz="3600"/>
            </a:b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что нужно отслеживать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971640" y="1980720"/>
            <a:ext cx="74865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спользование ресурсов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ответствие израсходованных ресурсов плану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роцесс выполнения программы (соответствие содержания и сроков мероприятий графику выполнения работ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;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блюдение методов и процедур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Результаты (в какой мере удается решать поставленные в начале проекта задачи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4AA-51D1-457F-91DF-E5449F8DD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3CB-2166-4803-9AE8-ADB192D28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2"/>
          <p:cNvSpPr/>
          <p:nvPr/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Построение системы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"/>
          <p:cNvSpPr/>
          <p:nvPr/>
        </p:nvSpPr>
        <p:spPr>
          <a:xfrm>
            <a:off x="990720" y="2514600"/>
            <a:ext cx="175248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6477120" y="2438280"/>
            <a:ext cx="213336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5"/>
          <p:cNvSpPr/>
          <p:nvPr/>
        </p:nvSpPr>
        <p:spPr>
          <a:xfrm>
            <a:off x="4114800" y="2286000"/>
            <a:ext cx="2195640" cy="182880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"/>
          <p:cNvSpPr/>
          <p:nvPr/>
        </p:nvSpPr>
        <p:spPr>
          <a:xfrm>
            <a:off x="2895480" y="2743200"/>
            <a:ext cx="1067040" cy="9144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"/>
          <p:cNvSpPr/>
          <p:nvPr/>
        </p:nvSpPr>
        <p:spPr>
          <a:xfrm>
            <a:off x="1600200" y="1600200"/>
            <a:ext cx="198108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8"/>
          <p:cNvSpPr/>
          <p:nvPr/>
        </p:nvSpPr>
        <p:spPr>
          <a:xfrm>
            <a:off x="3809880" y="1600200"/>
            <a:ext cx="129564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9"/>
          <p:cNvSpPr/>
          <p:nvPr/>
        </p:nvSpPr>
        <p:spPr>
          <a:xfrm>
            <a:off x="3809880" y="4191120"/>
            <a:ext cx="167652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0"/>
          <p:cNvSpPr/>
          <p:nvPr/>
        </p:nvSpPr>
        <p:spPr>
          <a:xfrm>
            <a:off x="1981080" y="4191120"/>
            <a:ext cx="160020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1"/>
          <p:cNvSpPr/>
          <p:nvPr/>
        </p:nvSpPr>
        <p:spPr>
          <a:xfrm>
            <a:off x="3048120" y="220968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12"/>
          <p:cNvSpPr/>
          <p:nvPr/>
        </p:nvSpPr>
        <p:spPr>
          <a:xfrm>
            <a:off x="4419720" y="2209680"/>
            <a:ext cx="10666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13"/>
          <p:cNvSpPr/>
          <p:nvPr/>
        </p:nvSpPr>
        <p:spPr>
          <a:xfrm flipV="1">
            <a:off x="3124080" y="36576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14"/>
          <p:cNvSpPr/>
          <p:nvPr/>
        </p:nvSpPr>
        <p:spPr>
          <a:xfrm flipV="1">
            <a:off x="4267080" y="36576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15"/>
          <p:cNvSpPr/>
          <p:nvPr/>
        </p:nvSpPr>
        <p:spPr>
          <a:xfrm rot="10800000">
            <a:off x="4723920" y="2438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16"/>
          <p:cNvSpPr/>
          <p:nvPr/>
        </p:nvSpPr>
        <p:spPr>
          <a:xfrm rot="10800000">
            <a:off x="4800240" y="1295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17"/>
          <p:cNvSpPr/>
          <p:nvPr/>
        </p:nvSpPr>
        <p:spPr>
          <a:xfrm rot="10800000">
            <a:off x="2819160" y="38862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18"/>
          <p:cNvSpPr/>
          <p:nvPr/>
        </p:nvSpPr>
        <p:spPr>
          <a:xfrm rot="10800000">
            <a:off x="5028840" y="38862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AutoShape 19"/>
          <p:cNvSpPr/>
          <p:nvPr/>
        </p:nvSpPr>
        <p:spPr>
          <a:xfrm rot="10800000">
            <a:off x="8229240" y="22096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AutoShape 20"/>
          <p:cNvSpPr/>
          <p:nvPr/>
        </p:nvSpPr>
        <p:spPr>
          <a:xfrm rot="10800000">
            <a:off x="3047760" y="1295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21"/>
          <p:cNvSpPr/>
          <p:nvPr/>
        </p:nvSpPr>
        <p:spPr>
          <a:xfrm rot="10800000">
            <a:off x="3428640" y="25146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22"/>
          <p:cNvSpPr/>
          <p:nvPr/>
        </p:nvSpPr>
        <p:spPr>
          <a:xfrm>
            <a:off x="5181480" y="4114800"/>
            <a:ext cx="1828800" cy="1066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23"/>
          <p:cNvSpPr/>
          <p:nvPr/>
        </p:nvSpPr>
        <p:spPr>
          <a:xfrm>
            <a:off x="2971800" y="4114800"/>
            <a:ext cx="3962520" cy="1219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24"/>
          <p:cNvSpPr/>
          <p:nvPr/>
        </p:nvSpPr>
        <p:spPr>
          <a:xfrm>
            <a:off x="4876920" y="2590920"/>
            <a:ext cx="236196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5"/>
          <p:cNvSpPr/>
          <p:nvPr/>
        </p:nvSpPr>
        <p:spPr>
          <a:xfrm>
            <a:off x="3581280" y="2666880"/>
            <a:ext cx="350532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6"/>
          <p:cNvSpPr/>
          <p:nvPr/>
        </p:nvSpPr>
        <p:spPr>
          <a:xfrm>
            <a:off x="3200400" y="1447920"/>
            <a:ext cx="3962520" cy="3504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7"/>
          <p:cNvSpPr/>
          <p:nvPr/>
        </p:nvSpPr>
        <p:spPr>
          <a:xfrm>
            <a:off x="4952880" y="1447920"/>
            <a:ext cx="2362320" cy="3352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8"/>
          <p:cNvSpPr/>
          <p:nvPr/>
        </p:nvSpPr>
        <p:spPr>
          <a:xfrm flipV="1">
            <a:off x="7543800" y="2361960"/>
            <a:ext cx="762120" cy="2361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29" descr="BS00580_"/>
          <p:cNvPicPr/>
          <p:nvPr/>
        </p:nvPicPr>
        <p:blipFill>
          <a:blip r:embed="rId1"/>
          <a:stretch/>
        </p:blipFill>
        <p:spPr>
          <a:xfrm>
            <a:off x="7086600" y="4876920"/>
            <a:ext cx="1371600" cy="1155600"/>
          </a:xfrm>
          <a:prstGeom prst="rect">
            <a:avLst/>
          </a:prstGeom>
          <a:ln w="0">
            <a:noFill/>
          </a:ln>
        </p:spPr>
      </p:pic>
      <p:sp>
        <p:nvSpPr>
          <p:cNvPr id="1493" name="AutoShape 30"/>
          <p:cNvSpPr/>
          <p:nvPr/>
        </p:nvSpPr>
        <p:spPr>
          <a:xfrm flipH="1" rot="5400000">
            <a:off x="6080760" y="5043240"/>
            <a:ext cx="409680" cy="1295640"/>
          </a:xfrm>
          <a:prstGeom prst="downArrow">
            <a:avLst>
              <a:gd name="adj1" fmla="val 50000"/>
              <a:gd name="adj2" fmla="val 790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Object 31"/>
          <p:cNvGraphicFramePr/>
          <p:nvPr/>
        </p:nvGraphicFramePr>
        <p:xfrm>
          <a:off x="3962520" y="4876920"/>
          <a:ext cx="1828800" cy="17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5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4876920"/>
                    <a:ext cx="182880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Rectangle 32"/>
          <p:cNvSpPr/>
          <p:nvPr/>
        </p:nvSpPr>
        <p:spPr>
          <a:xfrm>
            <a:off x="250920" y="260280"/>
            <a:ext cx="3911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66f54"/>
                </a:solidFill>
                <a:latin typeface="Arial"/>
              </a:rPr>
              <a:t>Когда нужно создавать систему мониторин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33"/>
          <p:cNvSpPr/>
          <p:nvPr/>
        </p:nvSpPr>
        <p:spPr>
          <a:xfrm rot="16200000">
            <a:off x="4349880" y="50400"/>
            <a:ext cx="485640" cy="762120"/>
          </a:xfrm>
          <a:prstGeom prst="down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34"/>
          <p:cNvSpPr/>
          <p:nvPr/>
        </p:nvSpPr>
        <p:spPr>
          <a:xfrm>
            <a:off x="5580000" y="115920"/>
            <a:ext cx="3048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66f54"/>
                </a:solidFill>
                <a:latin typeface="Arial"/>
              </a:rPr>
              <a:t>На стадии разработк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Arial"/>
              </a:rPr>
              <a:t>Мониторинг программы: </a:t>
            </a:r>
            <a:br>
              <a:rPr sz="2900"/>
            </a:br>
            <a:r>
              <a:rPr b="1" lang="ru-RU" sz="2500" spc="-1" strike="noStrike">
                <a:solidFill>
                  <a:srgbClr val="262626"/>
                </a:solidFill>
                <a:latin typeface="Arial"/>
              </a:rPr>
              <a:t>что нужно для успешного мониторинга?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14475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ить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измеряемые показатели/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ндикаторы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программ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Установить источники информации для проведения мониторинг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Выбрать методы сбора информаци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Определить периодичность сбора/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ения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информа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планировать, каким образом будет использоваться получаемая информац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Учесть в бюджете программы необходимые расх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B01-6FE2-4897-B711-A18948D67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2" name="Picture 4" descr="j0238283"/>
          <p:cNvPicPr/>
          <p:nvPr/>
        </p:nvPicPr>
        <p:blipFill>
          <a:blip r:embed="rId1"/>
          <a:stretch/>
        </p:blipFill>
        <p:spPr>
          <a:xfrm>
            <a:off x="0" y="4514760"/>
            <a:ext cx="1784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AE7-0E21-4F85-9465-F79CA23F6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990720" y="2514600"/>
            <a:ext cx="175248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3"/>
          <p:cNvSpPr/>
          <p:nvPr/>
        </p:nvSpPr>
        <p:spPr>
          <a:xfrm>
            <a:off x="6477120" y="2438280"/>
            <a:ext cx="213336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4"/>
          <p:cNvSpPr/>
          <p:nvPr/>
        </p:nvSpPr>
        <p:spPr>
          <a:xfrm>
            <a:off x="4114800" y="2286000"/>
            <a:ext cx="2195640" cy="182880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2895480" y="2743200"/>
            <a:ext cx="1067040" cy="9144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1600200" y="1371600"/>
            <a:ext cx="198108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3809880" y="1371600"/>
            <a:ext cx="129564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3809880" y="4267080"/>
            <a:ext cx="1676520" cy="6098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1981080" y="4267080"/>
            <a:ext cx="1600200" cy="6098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2895480" y="5181480"/>
            <a:ext cx="22860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11"/>
          <p:cNvSpPr/>
          <p:nvPr/>
        </p:nvSpPr>
        <p:spPr>
          <a:xfrm>
            <a:off x="3124080" y="198108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2"/>
          <p:cNvSpPr/>
          <p:nvPr/>
        </p:nvSpPr>
        <p:spPr>
          <a:xfrm>
            <a:off x="4343400" y="198108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3"/>
          <p:cNvSpPr/>
          <p:nvPr/>
        </p:nvSpPr>
        <p:spPr>
          <a:xfrm flipV="1">
            <a:off x="3200400" y="36572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4"/>
          <p:cNvSpPr/>
          <p:nvPr/>
        </p:nvSpPr>
        <p:spPr>
          <a:xfrm flipV="1">
            <a:off x="4343400" y="36572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5" name="AutoShape 15"/>
          <p:cNvCxnSpPr>
            <a:stCxn id="1323" idx="2"/>
            <a:endCxn id="1330" idx="3"/>
          </p:cNvCxnSpPr>
          <p:nvPr/>
        </p:nvCxnSpPr>
        <p:spPr>
          <a:xfrm rot="5400000">
            <a:off x="5475960" y="3609720"/>
            <a:ext cx="1791360" cy="23439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6" name="AutoShape 16"/>
          <p:cNvCxnSpPr>
            <a:stCxn id="1330" idx="1"/>
            <a:endCxn id="1322" idx="2"/>
          </p:cNvCxnSpPr>
          <p:nvPr/>
        </p:nvCxnSpPr>
        <p:spPr>
          <a:xfrm rot="10800000">
            <a:off x="1866240" y="3961800"/>
            <a:ext cx="1010160" cy="17150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7" name="AutoShape 17"/>
          <p:cNvCxnSpPr/>
          <p:nvPr/>
        </p:nvCxnSpPr>
        <p:spPr>
          <a:xfrm rot="5400000">
            <a:off x="4456800" y="4381560"/>
            <a:ext cx="1905840" cy="457920"/>
          </a:xfrm>
          <a:prstGeom prst="bentConnector3">
            <a:avLst>
              <a:gd name="adj1" fmla="val 99395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38" name="Text Box 18"/>
          <p:cNvSpPr/>
          <p:nvPr/>
        </p:nvSpPr>
        <p:spPr>
          <a:xfrm>
            <a:off x="2133720" y="4572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6f54"/>
                </a:solidFill>
                <a:latin typeface="Arial"/>
              </a:rPr>
              <a:t>МОД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Как разработать индикаторы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тветить на вопрос «По каким признакам мы узнаем о том, что результаты программы достигнуты?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ы могут быть как количественными, так и качественны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Разрабатывать индикаторы должны авторы программы (эксперты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ы формируются на этапе разработки, но могут корректироваться в ходе програм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, независимо от того, количественный он или качественный – всегда число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071-C82F-4FF6-8DFE-CC2B16C7A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дикатор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олжны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ыть показательными в отношении качественных и количественных характеристи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ОЛИЧЕСТВ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 скольк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АЧЕСТВ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----- насколько хорош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РEМ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----------- когд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C1F7-A12C-46B8-A1A6-C0D0DD4F23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64CB-E4C5-41E3-8FE9-DBE76B57A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ипы индикатор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900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ahoma"/>
                <a:ea typeface="Tahoma"/>
              </a:rPr>
              <a:t>Какие характеристики проекта измеряются: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количественны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качественны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ahoma"/>
                <a:ea typeface="Tahoma"/>
              </a:rPr>
              <a:t>Что измеряют: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вход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процесс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непосредственный результат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общий результат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влияни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2" name="Picture 4" descr="j0303472"/>
          <p:cNvPicPr/>
          <p:nvPr/>
        </p:nvPicPr>
        <p:blipFill>
          <a:blip r:embed="rId1"/>
          <a:stretch/>
        </p:blipFill>
        <p:spPr>
          <a:xfrm>
            <a:off x="6858000" y="1357200"/>
            <a:ext cx="1762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CE49-B8E2-47F8-8C1C-F1943C14FC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956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52440">
              <a:lnSpc>
                <a:spcPct val="115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ресурса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Объем ресурс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выхода </a:t>
            </a: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(продукты)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Количество  услуг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результат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Выгоды  для благополучателе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эффективност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Соотношение результатов и ресурс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 воздейств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Влияние на проблему проекта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индикаторов мониторинг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16" name="Picture 5" descr=""/>
          <p:cNvPicPr/>
          <p:nvPr/>
        </p:nvPicPr>
        <p:blipFill>
          <a:blip r:embed="rId1"/>
          <a:stretch/>
        </p:blipFill>
        <p:spPr>
          <a:xfrm>
            <a:off x="6372360" y="765000"/>
            <a:ext cx="2771640" cy="223236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4" descr="j0283494"/>
          <p:cNvPicPr/>
          <p:nvPr/>
        </p:nvPicPr>
        <p:blipFill>
          <a:blip r:embed="rId2"/>
          <a:stretch/>
        </p:blipFill>
        <p:spPr>
          <a:xfrm>
            <a:off x="0" y="4286160"/>
            <a:ext cx="15876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7F1C-6551-454F-8648-2817F8E81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Что такое «хороший индикатор»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?</a:t>
            </a:r>
            <a:br>
              <a:rPr sz="3600"/>
            </a:br>
            <a:r>
              <a:rPr b="0" lang="en-US" sz="2200" spc="-1" strike="noStrike">
                <a:solidFill>
                  <a:srgbClr val="262626"/>
                </a:solidFill>
                <a:latin typeface="Century Gothic"/>
              </a:rPr>
              <a:t>(“10 steps”, page 68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0" y="1413000"/>
          <a:ext cx="8229600" cy="508932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ый /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ый и определ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енный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ся к важным характеристикам объек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т разумные затр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qu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ет информацию, соответствующую тому, что он измеря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ем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кает независимую провер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особы проверк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следний шаг для того, чтобы избежать разногласий по поводу достижений на момент окончания проекта состоит в том, чтобы установить 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СПОСОБЫ ПРОВЕР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ТКУД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мы возьмем информацию, необходимую для установления выбранных показателей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КА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мы будем собирать эту информацию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BE33-E7CD-4372-ADCC-A3098755E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5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A85-ADD9-4377-BAE2-D0EF856C74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0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АЛГОРИТМ МОНИТОРИНГА ПРОЕКТА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26" name="Содержимое 3" descr=""/>
          <p:cNvPicPr/>
          <p:nvPr/>
        </p:nvPicPr>
        <p:blipFill>
          <a:blip r:embed="rId1"/>
          <a:stretch/>
        </p:blipFill>
        <p:spPr>
          <a:xfrm>
            <a:off x="-6480" y="426960"/>
            <a:ext cx="91630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E36-37D6-407E-A539-367E303DB3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граничения системы мониторинг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3271680" y="1214280"/>
            <a:ext cx="58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Измеряет только то, что мы запланировали заран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Не измеряет то, что мы не запланировали заран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Констатирует факты, но не объясняет их причин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Есть риск манипулирования значениями индикаторов (термометр – к свечке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0" name="Object 5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73B0-507F-4200-8235-43A05697C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Как узнать, достигнут ли запланированный результат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33" name="Object 2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768680" cy="2057400"/>
          </a:xfrm>
          <a:prstGeom prst="rect">
            <a:avLst/>
          </a:prstGeom>
          <a:ln w="0">
            <a:noFill/>
          </a:ln>
        </p:spPr>
      </p:pic>
      <p:sp>
        <p:nvSpPr>
          <p:cNvPr id="1534" name="Line 4"/>
          <p:cNvSpPr/>
          <p:nvPr/>
        </p:nvSpPr>
        <p:spPr>
          <a:xfrm>
            <a:off x="243828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5"/>
          <p:cNvSpPr/>
          <p:nvPr/>
        </p:nvSpPr>
        <p:spPr>
          <a:xfrm>
            <a:off x="144792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6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"/>
          <p:cNvSpPr/>
          <p:nvPr/>
        </p:nvSpPr>
        <p:spPr>
          <a:xfrm>
            <a:off x="19051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33520" y="2362320"/>
            <a:ext cx="685800" cy="533160"/>
          </a:xfrm>
          <a:prstGeom prst="wedgeEllipseCallout">
            <a:avLst>
              <a:gd name="adj1" fmla="val 120833"/>
              <a:gd name="adj2" fmla="val 19791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2362320" y="1981080"/>
            <a:ext cx="609480" cy="457200"/>
          </a:xfrm>
          <a:prstGeom prst="wedgeEllipseCallout">
            <a:avLst>
              <a:gd name="adj1" fmla="val -44532"/>
              <a:gd name="adj2" fmla="val 23090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457200" y="3352680"/>
            <a:ext cx="609480" cy="609840"/>
          </a:xfrm>
          <a:prstGeom prst="wedgeEllipseCallout">
            <a:avLst>
              <a:gd name="adj1" fmla="val 142189"/>
              <a:gd name="adj2" fmla="val 1020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11"/>
          <p:cNvSpPr/>
          <p:nvPr/>
        </p:nvSpPr>
        <p:spPr>
          <a:xfrm>
            <a:off x="1295280" y="1981080"/>
            <a:ext cx="609840" cy="457200"/>
          </a:xfrm>
          <a:prstGeom prst="wedgeEllipseCallout">
            <a:avLst>
              <a:gd name="adj1" fmla="val 53125"/>
              <a:gd name="adj2" fmla="val 229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2"/>
          <p:cNvSpPr/>
          <p:nvPr/>
        </p:nvSpPr>
        <p:spPr>
          <a:xfrm>
            <a:off x="4356000" y="2060640"/>
            <a:ext cx="4392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Для этого необходимо указ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измеряемые характеристи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результ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Если фактическ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характеристики совпадаю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с запланированным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то результат достигну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3" name="AutoShape 13"/>
          <p:cNvCxnSpPr/>
          <p:nvPr/>
        </p:nvCxnSpPr>
        <p:spPr>
          <a:xfrm>
            <a:off x="3123720" y="2895120"/>
            <a:ext cx="2520" cy="16009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44" name="AutoShape 14"/>
          <p:cNvCxnSpPr/>
          <p:nvPr/>
        </p:nvCxnSpPr>
        <p:spPr>
          <a:xfrm>
            <a:off x="1447560" y="5105160"/>
            <a:ext cx="9910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545" name="Text Box 15"/>
          <p:cNvSpPr/>
          <p:nvPr/>
        </p:nvSpPr>
        <p:spPr>
          <a:xfrm>
            <a:off x="1832760" y="46134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16"/>
          <p:cNvSpPr/>
          <p:nvPr/>
        </p:nvSpPr>
        <p:spPr>
          <a:xfrm>
            <a:off x="276300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Object 2" descr=""/>
          <p:cNvPicPr/>
          <p:nvPr/>
        </p:nvPicPr>
        <p:blipFill>
          <a:blip r:embed="rId2"/>
          <a:stretch/>
        </p:blipFill>
        <p:spPr>
          <a:xfrm>
            <a:off x="1071720" y="2928960"/>
            <a:ext cx="176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76000" y="304560"/>
            <a:ext cx="7286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entury Gothic"/>
              </a:rPr>
              <a:t>Методы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1189080" y="2049120"/>
            <a:ext cx="7053120" cy="3668760"/>
          </a:xfrm>
          <a:prstGeom prst="rect">
            <a:avLst/>
          </a:prstGeom>
          <a:noFill/>
          <a:ln w="9360">
            <a:solidFill>
              <a:srgbClr val="de7e18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Замеры в сообществе в целом (например, социологический опрос)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Оценка влияния на участников программ (например, оценка тренингов).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Контрольные группы.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6FF3-4E81-45FD-B1FD-AFA5892CB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250920" y="692280"/>
            <a:ext cx="248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BF5-98F9-4695-B273-F5C111068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03280" y="304920"/>
            <a:ext cx="7740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Жизненный цикл проект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41" name="Group 4"/>
          <p:cNvGrpSpPr/>
          <p:nvPr/>
        </p:nvGrpSpPr>
        <p:grpSpPr>
          <a:xfrm>
            <a:off x="5068800" y="1531800"/>
            <a:ext cx="2265480" cy="1236600"/>
            <a:chOff x="5068800" y="1531800"/>
            <a:chExt cx="2265480" cy="1236600"/>
          </a:xfrm>
        </p:grpSpPr>
        <p:sp>
          <p:nvSpPr>
            <p:cNvPr id="1342" name="Oval 5"/>
            <p:cNvSpPr/>
            <p:nvPr/>
          </p:nvSpPr>
          <p:spPr>
            <a:xfrm>
              <a:off x="5439960" y="1915920"/>
              <a:ext cx="914400" cy="852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6"/>
            <p:cNvSpPr/>
            <p:nvPr/>
          </p:nvSpPr>
          <p:spPr>
            <a:xfrm>
              <a:off x="5068800" y="15318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Целеполаг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Group 7"/>
          <p:cNvGrpSpPr/>
          <p:nvPr/>
        </p:nvGrpSpPr>
        <p:grpSpPr>
          <a:xfrm>
            <a:off x="5940360" y="2924280"/>
            <a:ext cx="2647440" cy="1496520"/>
            <a:chOff x="5940360" y="2924280"/>
            <a:chExt cx="2647440" cy="1496520"/>
          </a:xfrm>
        </p:grpSpPr>
        <p:sp>
          <p:nvSpPr>
            <p:cNvPr id="1345" name="Oval 8"/>
            <p:cNvSpPr/>
            <p:nvPr/>
          </p:nvSpPr>
          <p:spPr>
            <a:xfrm>
              <a:off x="5940360" y="3301200"/>
              <a:ext cx="1000440" cy="1119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9"/>
            <p:cNvSpPr/>
            <p:nvPr/>
          </p:nvSpPr>
          <p:spPr>
            <a:xfrm>
              <a:off x="6412320" y="29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ла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Group 10"/>
          <p:cNvGrpSpPr/>
          <p:nvPr/>
        </p:nvGrpSpPr>
        <p:grpSpPr>
          <a:xfrm>
            <a:off x="3995640" y="4581360"/>
            <a:ext cx="2964240" cy="1066680"/>
            <a:chOff x="3995640" y="4581360"/>
            <a:chExt cx="2964240" cy="1066680"/>
          </a:xfrm>
        </p:grpSpPr>
        <p:sp>
          <p:nvSpPr>
            <p:cNvPr id="1348" name="Oval 11"/>
            <p:cNvSpPr/>
            <p:nvPr/>
          </p:nvSpPr>
          <p:spPr>
            <a:xfrm>
              <a:off x="3995640" y="4581360"/>
              <a:ext cx="1143000" cy="10666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2"/>
            <p:cNvSpPr/>
            <p:nvPr/>
          </p:nvSpPr>
          <p:spPr>
            <a:xfrm>
              <a:off x="5162040" y="5020920"/>
              <a:ext cx="17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еализ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Oval 13"/>
          <p:cNvSpPr/>
          <p:nvPr/>
        </p:nvSpPr>
        <p:spPr>
          <a:xfrm>
            <a:off x="971640" y="3789360"/>
            <a:ext cx="205740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2838"/>
                </a:solidFill>
                <a:latin typeface="Tahoma"/>
                <a:ea typeface="Arial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rc 14"/>
          <p:cNvSpPr/>
          <p:nvPr/>
        </p:nvSpPr>
        <p:spPr>
          <a:xfrm flipH="1" flipV="1" rot="4887000">
            <a:off x="2956680" y="3603600"/>
            <a:ext cx="1147680" cy="798480"/>
          </a:xfrm>
          <a:custGeom>
            <a:avLst/>
            <a:gdLst>
              <a:gd name="textAreaLeft" fmla="*/ 0 w 1147680"/>
              <a:gd name="textAreaRight" fmla="*/ 1147680 w 1147680"/>
              <a:gd name="textAreaTop" fmla="*/ 360 h 798480"/>
              <a:gd name="textAreaBottom" fmla="*/ 799200 h 798480"/>
            </a:gdLst>
            <a:ahLst/>
            <a:rect l="textAreaLeft" t="textAreaTop" r="textAreaRight" b="textAreaBottom"/>
            <a:pathLst>
              <a:path fill="none" w="43200" h="21932">
                <a:moveTo>
                  <a:pt x="2" y="21932"/>
                </a:moveTo>
                <a:cubicBezTo>
                  <a:pt x="0" y="21821"/>
                  <a:pt x="0" y="217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932">
                <a:moveTo>
                  <a:pt x="2" y="21932"/>
                </a:moveTo>
                <a:cubicBezTo>
                  <a:pt x="0" y="21821"/>
                  <a:pt x="0" y="217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" y="219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rc 15"/>
          <p:cNvSpPr/>
          <p:nvPr/>
        </p:nvSpPr>
        <p:spPr>
          <a:xfrm flipV="1">
            <a:off x="5076720" y="4436280"/>
            <a:ext cx="1139760" cy="576360"/>
          </a:xfrm>
          <a:custGeom>
            <a:avLst/>
            <a:gdLst>
              <a:gd name="textAreaLeft" fmla="*/ 0 w 1139760"/>
              <a:gd name="textAreaRight" fmla="*/ 1140120 w 11397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8523" h="21600">
                <a:moveTo>
                  <a:pt x="-1" y="1139"/>
                </a:moveTo>
                <a:cubicBezTo>
                  <a:pt x="2230" y="384"/>
                  <a:pt x="4568" y="-1"/>
                  <a:pt x="6923" y="0"/>
                </a:cubicBezTo>
                <a:cubicBezTo>
                  <a:pt x="18852" y="0"/>
                  <a:pt x="28523" y="9670"/>
                  <a:pt x="28523" y="21600"/>
                </a:cubicBezTo>
              </a:path>
              <a:path stroke="0" w="28523" h="21600">
                <a:moveTo>
                  <a:pt x="-1" y="1139"/>
                </a:moveTo>
                <a:cubicBezTo>
                  <a:pt x="2230" y="384"/>
                  <a:pt x="4568" y="-1"/>
                  <a:pt x="6923" y="0"/>
                </a:cubicBezTo>
                <a:cubicBezTo>
                  <a:pt x="18852" y="0"/>
                  <a:pt x="28523" y="9670"/>
                  <a:pt x="28523" y="21600"/>
                </a:cubicBezTo>
                <a:lnTo>
                  <a:pt x="6923" y="21600"/>
                </a:lnTo>
                <a:lnTo>
                  <a:pt x="-1" y="11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16"/>
          <p:cNvSpPr/>
          <p:nvPr/>
        </p:nvSpPr>
        <p:spPr>
          <a:xfrm flipV="1">
            <a:off x="2556000" y="3284640"/>
            <a:ext cx="72072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rc 17"/>
          <p:cNvSpPr/>
          <p:nvPr/>
        </p:nvSpPr>
        <p:spPr>
          <a:xfrm rot="20658600">
            <a:off x="4070520" y="2352240"/>
            <a:ext cx="1358640" cy="505080"/>
          </a:xfrm>
          <a:custGeom>
            <a:avLst/>
            <a:gdLst>
              <a:gd name="textAreaLeft" fmla="*/ 0 w 1358640"/>
              <a:gd name="textAreaRight" fmla="*/ 1359000 w 1358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fill="none" w="22326" h="21600">
                <a:moveTo>
                  <a:pt x="-1" y="1002"/>
                </a:moveTo>
                <a:cubicBezTo>
                  <a:pt x="2104" y="338"/>
                  <a:pt x="4298" y="-1"/>
                  <a:pt x="6505" y="0"/>
                </a:cubicBezTo>
                <a:cubicBezTo>
                  <a:pt x="12507" y="0"/>
                  <a:pt x="18239" y="2497"/>
                  <a:pt x="22326" y="6894"/>
                </a:cubicBezTo>
              </a:path>
              <a:path stroke="0" w="22326" h="21600">
                <a:moveTo>
                  <a:pt x="-1" y="1002"/>
                </a:moveTo>
                <a:cubicBezTo>
                  <a:pt x="2104" y="338"/>
                  <a:pt x="4298" y="-1"/>
                  <a:pt x="6505" y="0"/>
                </a:cubicBezTo>
                <a:cubicBezTo>
                  <a:pt x="12507" y="0"/>
                  <a:pt x="18239" y="2497"/>
                  <a:pt x="22326" y="6894"/>
                </a:cubicBezTo>
                <a:lnTo>
                  <a:pt x="6505" y="21600"/>
                </a:lnTo>
                <a:lnTo>
                  <a:pt x="-1" y="10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rc 18"/>
          <p:cNvSpPr/>
          <p:nvPr/>
        </p:nvSpPr>
        <p:spPr>
          <a:xfrm rot="6312000">
            <a:off x="4125960" y="2577240"/>
            <a:ext cx="1241640" cy="308772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fill="none" w="16528" h="20462">
                <a:moveTo>
                  <a:pt x="6918" y="-1"/>
                </a:moveTo>
                <a:cubicBezTo>
                  <a:pt x="10660" y="1265"/>
                  <a:pt x="13984" y="3532"/>
                  <a:pt x="16528" y="6555"/>
                </a:cubicBezTo>
              </a:path>
              <a:path stroke="0" w="16528" h="20462">
                <a:moveTo>
                  <a:pt x="6918" y="-1"/>
                </a:moveTo>
                <a:cubicBezTo>
                  <a:pt x="10660" y="1265"/>
                  <a:pt x="13984" y="3532"/>
                  <a:pt x="16528" y="6555"/>
                </a:cubicBezTo>
                <a:lnTo>
                  <a:pt x="0" y="20462"/>
                </a:lnTo>
                <a:lnTo>
                  <a:pt x="691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rc 19"/>
          <p:cNvSpPr/>
          <p:nvPr/>
        </p:nvSpPr>
        <p:spPr>
          <a:xfrm rot="5713800">
            <a:off x="5306040" y="1570680"/>
            <a:ext cx="849240" cy="2803680"/>
          </a:xfrm>
          <a:custGeom>
            <a:avLst/>
            <a:gdLst>
              <a:gd name="textAreaLeft" fmla="*/ 0 w 849240"/>
              <a:gd name="textAreaRight" fmla="*/ 849600 w 84924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fill="none" w="23486" h="21600">
                <a:moveTo>
                  <a:pt x="0" y="7444"/>
                </a:moveTo>
                <a:cubicBezTo>
                  <a:pt x="4102" y="2715"/>
                  <a:pt x="10054" y="-1"/>
                  <a:pt x="16315" y="0"/>
                </a:cubicBezTo>
                <a:cubicBezTo>
                  <a:pt x="18757" y="0"/>
                  <a:pt x="21182" y="414"/>
                  <a:pt x="23485" y="1225"/>
                </a:cubicBezTo>
              </a:path>
              <a:path stroke="0" w="23486" h="21600">
                <a:moveTo>
                  <a:pt x="0" y="7444"/>
                </a:moveTo>
                <a:cubicBezTo>
                  <a:pt x="4102" y="2715"/>
                  <a:pt x="10054" y="-1"/>
                  <a:pt x="16315" y="0"/>
                </a:cubicBezTo>
                <a:cubicBezTo>
                  <a:pt x="18757" y="0"/>
                  <a:pt x="21182" y="414"/>
                  <a:pt x="23485" y="1225"/>
                </a:cubicBezTo>
                <a:lnTo>
                  <a:pt x="16315" y="21600"/>
                </a:lnTo>
                <a:lnTo>
                  <a:pt x="0" y="74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rc 20"/>
          <p:cNvSpPr/>
          <p:nvPr/>
        </p:nvSpPr>
        <p:spPr>
          <a:xfrm rot="17922600">
            <a:off x="2311200" y="3411720"/>
            <a:ext cx="1209600" cy="50472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19853" h="21600">
                <a:moveTo>
                  <a:pt x="0" y="39"/>
                </a:moveTo>
                <a:cubicBezTo>
                  <a:pt x="433" y="13"/>
                  <a:pt x="868" y="-1"/>
                  <a:pt x="1303" y="0"/>
                </a:cubicBezTo>
                <a:cubicBezTo>
                  <a:pt x="8909" y="0"/>
                  <a:pt x="15955" y="4001"/>
                  <a:pt x="19853" y="10533"/>
                </a:cubicBezTo>
              </a:path>
              <a:path stroke="0" w="19853" h="21600">
                <a:moveTo>
                  <a:pt x="0" y="39"/>
                </a:moveTo>
                <a:cubicBezTo>
                  <a:pt x="433" y="13"/>
                  <a:pt x="868" y="-1"/>
                  <a:pt x="1303" y="0"/>
                </a:cubicBezTo>
                <a:cubicBezTo>
                  <a:pt x="8909" y="0"/>
                  <a:pt x="15955" y="4001"/>
                  <a:pt x="19853" y="10533"/>
                </a:cubicBezTo>
                <a:lnTo>
                  <a:pt x="1303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rc 21"/>
          <p:cNvSpPr/>
          <p:nvPr/>
        </p:nvSpPr>
        <p:spPr>
          <a:xfrm rot="11499600">
            <a:off x="2916000" y="4797000"/>
            <a:ext cx="1110960" cy="22068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fill="none" w="32621" h="21600">
                <a:moveTo>
                  <a:pt x="-1" y="14216"/>
                </a:moveTo>
                <a:cubicBezTo>
                  <a:pt x="3104" y="5681"/>
                  <a:pt x="11216" y="-1"/>
                  <a:pt x="20299" y="0"/>
                </a:cubicBezTo>
                <a:cubicBezTo>
                  <a:pt x="24703" y="0"/>
                  <a:pt x="29003" y="1346"/>
                  <a:pt x="32621" y="3859"/>
                </a:cubicBezTo>
              </a:path>
              <a:path stroke="0" w="32621" h="21600">
                <a:moveTo>
                  <a:pt x="-1" y="14216"/>
                </a:moveTo>
                <a:cubicBezTo>
                  <a:pt x="3104" y="5681"/>
                  <a:pt x="11216" y="-1"/>
                  <a:pt x="20299" y="0"/>
                </a:cubicBezTo>
                <a:cubicBezTo>
                  <a:pt x="24703" y="0"/>
                  <a:pt x="29003" y="1346"/>
                  <a:pt x="32621" y="3859"/>
                </a:cubicBezTo>
                <a:lnTo>
                  <a:pt x="20299" y="21600"/>
                </a:lnTo>
                <a:lnTo>
                  <a:pt x="-1" y="142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38"/>
          <p:cNvGrpSpPr/>
          <p:nvPr/>
        </p:nvGrpSpPr>
        <p:grpSpPr>
          <a:xfrm>
            <a:off x="2500200" y="1785960"/>
            <a:ext cx="2684160" cy="1718640"/>
            <a:chOff x="2500200" y="1785960"/>
            <a:chExt cx="2684160" cy="1718640"/>
          </a:xfrm>
        </p:grpSpPr>
        <p:sp>
          <p:nvSpPr>
            <p:cNvPr id="1360" name="Oval 39"/>
            <p:cNvSpPr/>
            <p:nvPr/>
          </p:nvSpPr>
          <p:spPr>
            <a:xfrm>
              <a:off x="2919240" y="2365200"/>
              <a:ext cx="1055160" cy="1139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40"/>
            <p:cNvSpPr/>
            <p:nvPr/>
          </p:nvSpPr>
          <p:spPr>
            <a:xfrm>
              <a:off x="2500200" y="1785960"/>
              <a:ext cx="268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Иниц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86A-C912-4E9F-A19E-2AD260506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4"/>
          <p:cNvSpPr/>
          <p:nvPr/>
        </p:nvSpPr>
        <p:spPr>
          <a:xfrm>
            <a:off x="4806000" y="2579760"/>
            <a:ext cx="3722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и что ?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4" name="Object 6"/>
          <p:cNvGraphicFramePr/>
          <p:nvPr/>
        </p:nvGraphicFramePr>
        <p:xfrm>
          <a:off x="2268360" y="3500280"/>
          <a:ext cx="16542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500280"/>
                    <a:ext cx="1654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Text Box 7"/>
          <p:cNvSpPr/>
          <p:nvPr/>
        </p:nvSpPr>
        <p:spPr>
          <a:xfrm>
            <a:off x="2627280" y="981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Arial"/>
              </a:rPr>
              <a:t>Виды оценки </a:t>
            </a:r>
            <a:br>
              <a:rPr sz="3000"/>
            </a:b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по М.Скривену)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Формирующая: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по результатам корректируется ход программы (повар пробует суп)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Итоговая: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по результатам извлекаются  уроки на будущее (гости пробуют суп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559" name="Object 4"/>
          <p:cNvGraphicFramePr/>
          <p:nvPr/>
        </p:nvGraphicFramePr>
        <p:xfrm>
          <a:off x="6948360" y="620640"/>
          <a:ext cx="180828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620640"/>
                    <a:ext cx="18082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1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74A-FDA9-4AC7-9E7F-5B7113CC7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981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2f0694"/>
                </a:solidFill>
                <a:latin typeface="Century Gothic"/>
              </a:rPr>
              <a:t>Формирующая оценка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ценка потребностей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определяет несоответствие между существующим и желаемым положение дел относительно како-либо ситуации, выявляет существующие потребности и располагает их в порядке приоритетност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ценка процесс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описывает то, как в действительности  функционирует та или иная программа, каким образом реализация программы приводит к достижению желаемых результатов, и каковы сильные и слабые стороны программ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51F-ECEF-475A-B929-BE93E76AE9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Object 4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56912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f0694"/>
                </a:solidFill>
                <a:latin typeface="Century Gothic"/>
              </a:rPr>
              <a:t>Итоговая</a:t>
            </a:r>
            <a:r>
              <a:rPr b="1" lang="en-US" sz="3000" spc="-1" strike="noStrike">
                <a:solidFill>
                  <a:srgbClr val="2f0694"/>
                </a:solidFill>
                <a:latin typeface="Century Gothic"/>
              </a:rPr>
              <a:t>  оценка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451-EDC2-4623-80DE-A5AB16C2DC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250920" y="1484280"/>
            <a:ext cx="87138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ет определить, какие программы и виды деятельности организации действительно приводят к достижению запланированных результа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воз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воляет определить изменения в благосостоянии люд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получателей, которые могут быть отнесены на счет определенного проекта или программы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экономической эффективности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ует экономические методы для оценки соотношения произвед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трат и полученных результатов программы, выраженных в денеж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ношени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отношении затрат и результатов программы, выра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тратах на единицу полученного результата</a:t>
            </a:r>
            <a:r>
              <a:rPr b="0" i="1" lang="en-US" sz="2000" spc="-1" strike="noStrike">
                <a:solidFill>
                  <a:srgbClr val="e3eac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e3eac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Object 4" descr=""/>
          <p:cNvPicPr/>
          <p:nvPr/>
        </p:nvPicPr>
        <p:blipFill>
          <a:blip r:embed="rId1"/>
          <a:stretch/>
        </p:blipFill>
        <p:spPr>
          <a:xfrm>
            <a:off x="6172200" y="476280"/>
            <a:ext cx="2724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Arial"/>
              </a:rPr>
              <a:t>Кто может проводить оценку  (мониторинг) программы?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46C-28BD-4453-BB80-1EADAA968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Picture 3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4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438640" cy="1617840"/>
          </a:xfrm>
          <a:prstGeom prst="rect">
            <a:avLst/>
          </a:prstGeom>
          <a:ln w="0">
            <a:noFill/>
          </a:ln>
        </p:spPr>
      </p:pic>
      <p:sp>
        <p:nvSpPr>
          <p:cNvPr id="1574" name="Rectangle 5"/>
          <p:cNvSpPr/>
          <p:nvPr/>
        </p:nvSpPr>
        <p:spPr>
          <a:xfrm>
            <a:off x="2819520" y="1523880"/>
            <a:ext cx="5715000" cy="4800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3276720" y="3809880"/>
            <a:ext cx="5029200" cy="2210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7"/>
          <p:cNvSpPr/>
          <p:nvPr/>
        </p:nvSpPr>
        <p:spPr>
          <a:xfrm>
            <a:off x="5865480" y="2209680"/>
            <a:ext cx="267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нима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я в п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8"/>
          <p:cNvSpPr/>
          <p:nvPr/>
        </p:nvSpPr>
        <p:spPr>
          <a:xfrm>
            <a:off x="303480" y="3276720"/>
            <a:ext cx="18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9"/>
          <p:cNvSpPr/>
          <p:nvPr/>
        </p:nvSpPr>
        <p:spPr>
          <a:xfrm>
            <a:off x="5105520" y="487692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0"/>
          <p:cNvSpPr/>
          <p:nvPr/>
        </p:nvSpPr>
        <p:spPr>
          <a:xfrm>
            <a:off x="3505680" y="388620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6f54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11"/>
          <p:cNvSpPr/>
          <p:nvPr/>
        </p:nvSpPr>
        <p:spPr>
          <a:xfrm>
            <a:off x="3124080" y="160020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6f54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AutoShape 12"/>
          <p:cNvSpPr/>
          <p:nvPr/>
        </p:nvSpPr>
        <p:spPr>
          <a:xfrm>
            <a:off x="609480" y="2438280"/>
            <a:ext cx="1524240" cy="609840"/>
          </a:xfrm>
          <a:prstGeom prst="wedgeRectCallout">
            <a:avLst>
              <a:gd name="adj1" fmla="val -31250"/>
              <a:gd name="adj2" fmla="val 95050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13"/>
          <p:cNvSpPr/>
          <p:nvPr/>
        </p:nvSpPr>
        <p:spPr>
          <a:xfrm>
            <a:off x="6858000" y="1143000"/>
            <a:ext cx="1905120" cy="609480"/>
          </a:xfrm>
          <a:prstGeom prst="wedgeRectCallout">
            <a:avLst>
              <a:gd name="adj1" fmla="val -30250"/>
              <a:gd name="adj2" fmla="val 1216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14"/>
          <p:cNvSpPr/>
          <p:nvPr/>
        </p:nvSpPr>
        <p:spPr>
          <a:xfrm>
            <a:off x="3048120" y="5867280"/>
            <a:ext cx="2819160" cy="609840"/>
          </a:xfrm>
          <a:prstGeom prst="wedgeRectCallout">
            <a:avLst>
              <a:gd name="adj1" fmla="val 35305"/>
              <a:gd name="adj2" fmla="val -9948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-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4" name="Object 15"/>
          <p:cNvGraphicFramePr/>
          <p:nvPr/>
        </p:nvGraphicFramePr>
        <p:xfrm>
          <a:off x="6858000" y="3886200"/>
          <a:ext cx="609480" cy="21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886200"/>
                    <a:ext cx="60948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78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Самооценивание: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преимущества  и  недостатки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831960" y="1412640"/>
            <a:ext cx="3876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 u="sng">
                <a:solidFill>
                  <a:srgbClr val="404040"/>
                </a:solidFill>
                <a:uFillTx/>
                <a:latin typeface="Century Gothic"/>
              </a:rPr>
              <a:t>Преимущества: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Является неотъемлемой частью жизни организации и заложена в практику её деятельност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Умение и навыки, необходимые для проведения самооценивания, рассосредоточены между всеми членами организаци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льшая вероятность использования полученных данных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Процесс самооценивания представляет развивающую деятельность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Рентабельность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932360" y="1341000"/>
            <a:ext cx="398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Недостатк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ценка требует времени, и ей может быть отведена вспомогательная роль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 все сотрудники организации обладают навыками и знаниями. Необходимыми для проведения оценки, или не желают развивать и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ложнее обеспечить надежность данных и объективность выводов, так как все участники оценки являются сотрудниками программы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BCE-CA84-4CC3-B9DF-0EEC4DCE6A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Object 5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21940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6834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Внутренняя оценка: </a:t>
            </a:r>
            <a:br>
              <a:rPr sz="2700"/>
            </a:b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преимущества и недостатки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611280" y="1483920"/>
            <a:ext cx="3657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Преимущества</a:t>
            </a:r>
            <a:r>
              <a:rPr b="1" lang="en-US" sz="13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Хорошее знание ситуаци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озможно проследить за выполнением рекомендаций и способствовать их выполнению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Знание культуры и атмосферы организации, и её программ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тносительно дешево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оверие участников программы и, как следствие, большая вероятность получения качественных данны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500720" y="1413000"/>
            <a:ext cx="395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entury Gothic"/>
              </a:rPr>
              <a:t>Недостатки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жет восприниматься как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енее объективная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свести к акции по поддержке связей с общественность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«увязнуть», собирая массу мелких деталей и учитывая все, что необходимо отразить в отчете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не хватить умения для выполнения задания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4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72B1-B1BF-4FC1-B1DD-C6833721F7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Object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562464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Внешняя оценка: </a:t>
            </a:r>
            <a:br>
              <a:rPr sz="2700"/>
            </a:b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преимущества и недостатки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539640" y="1267920"/>
            <a:ext cx="37339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</a:rPr>
              <a:t>Преимущества: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вежий взгляд, могут быть заданы важные вопросы, которые не всегда очевидня для сотрудников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зависимость и объективность, повышающие доверие результатам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пыт проведения оценки разных программ в разных организациях и, как следствие, больший набор апробированных приемов и методов проведения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вторитет независимого эксперта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ценщик полностью сосредоточен на задаче проведения оценки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4788000" y="12682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e3eacf"/>
                </a:solidFill>
                <a:latin typeface="Century Gothic"/>
              </a:rPr>
              <a:t>Недостатк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тстраненность от программы может привести к неправильно поставленным акцентам и сбору некачественных данных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После завершения работы по оценке организация теряет много информаци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не хватить авторитета для получения доступа к соответствующей группе для обсуждения и распространения полученных данны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 несет ответственности за использование результатов и рекомендации, сделанных в ходе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тоит дороже.</a:t>
            </a:r>
            <a:r>
              <a:rPr b="0" lang="en-US" sz="1700" spc="-1" strike="noStrike">
                <a:solidFill>
                  <a:srgbClr val="e3eac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23B6-8100-4F06-BB68-CD6BDCA78F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Object 5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0826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7914-8CFE-44D1-B888-BA81E145E6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остановка задачи на оценку программы: формулирование вопрос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1035000" y="2859120"/>
            <a:ext cx="7005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 мы хотим понять относительно нашей программы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ак мы собираемся использовать эту информацию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58C-E999-4801-9F36-9247477E47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B59-1485-44BA-82B1-69E1F1BC2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/>
          </p:nvPr>
        </p:nvSpPr>
        <p:spPr>
          <a:xfrm>
            <a:off x="1596960" y="404280"/>
            <a:ext cx="7547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Принципы контрол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64" name="Picture 3" descr="BD18254_"/>
          <p:cNvPicPr/>
          <p:nvPr/>
        </p:nvPicPr>
        <p:blipFill>
          <a:blip r:embed="rId1"/>
          <a:stretch/>
        </p:blipFill>
        <p:spPr>
          <a:xfrm>
            <a:off x="1943280" y="1143000"/>
            <a:ext cx="7200720" cy="5479920"/>
          </a:xfrm>
          <a:prstGeom prst="rect">
            <a:avLst/>
          </a:prstGeom>
          <a:ln w="0">
            <a:noFill/>
          </a:ln>
        </p:spPr>
      </p:pic>
      <p:sp>
        <p:nvSpPr>
          <p:cNvPr id="1365" name="Rectangle 4"/>
          <p:cNvSpPr/>
          <p:nvPr/>
        </p:nvSpPr>
        <p:spPr>
          <a:xfrm>
            <a:off x="1285920" y="585792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5"/>
          <p:cNvSpPr/>
          <p:nvPr/>
        </p:nvSpPr>
        <p:spPr>
          <a:xfrm>
            <a:off x="6289920" y="571500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результат</a:t>
            </a:r>
            <a:r>
              <a:rPr b="1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3714840" y="1500120"/>
            <a:ext cx="201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2838"/>
                </a:solidFill>
                <a:latin typeface="Verdana"/>
                <a:ea typeface="Arial"/>
              </a:rPr>
              <a:t>деятельность</a:t>
            </a:r>
            <a:r>
              <a:rPr b="0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7"/>
          <p:cNvSpPr/>
          <p:nvPr/>
        </p:nvSpPr>
        <p:spPr>
          <a:xfrm>
            <a:off x="3765960" y="46432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КОНТРОЛЬ</a:t>
            </a:r>
            <a:r>
              <a:rPr b="0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интересованные стороны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394920" y="980640"/>
            <a:ext cx="85201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физическое или юридическое, у которого есть «интерес» в оцениваемой программе, ситуации или вопросе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на которое оцениваемая программа, ситуация или вопрос влияют напрямую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которое может напрямую влиять на оцениваемую программу, ситуацию или вопрос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которое хочет получить ответ на вопрос, касающийся оцениваемой программы, ситуации или вопроса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5935-AB39-4640-9E62-6A9925A79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4" descr="PE01561_"/>
          <p:cNvPicPr/>
          <p:nvPr/>
        </p:nvPicPr>
        <p:blipFill>
          <a:blip r:embed="rId1"/>
          <a:stretch/>
        </p:blipFill>
        <p:spPr>
          <a:xfrm>
            <a:off x="5580000" y="5084640"/>
            <a:ext cx="2305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C360-6A05-414F-B037-D2EBB3A5B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35336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Планирование оцен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761760" y="1197000"/>
            <a:ext cx="8001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На какие вопросы нужно ответит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нужно знать для ответа на эти вопросы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мы уже знаем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й информации не хватает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Где есть недостающая информация (источники информации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 можно ее получить с учетом существующих ограничений (методы сбора данных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ие инструменты необходимо подготовить для сбора и анализа данных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то будет проводить оценку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вы будут основные этапы проведения оценки (последовательность, продолжительность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необходимо для проведения оценки с организационной и технической точки зр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в будет бюджет оценк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C84-DDC2-44A2-96EB-85D8D4429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Й ВОПРОС ОЦЕНКИ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1403280" y="2421000"/>
            <a:ext cx="63993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Century Gothic"/>
              </a:rPr>
              <a:t>УСПЕШЕН ЛИ ПРОЕКТ?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A839-6800-4B0A-AF91-2C9EBEBCDB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2808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262626"/>
                </a:solidFill>
                <a:latin typeface="Arial"/>
              </a:rPr>
              <a:t>Я действительно хотел/а бы узнать о программе следующее</a:t>
            </a:r>
            <a:r>
              <a:rPr b="1" lang="en-US" sz="3100" spc="-1" strike="noStrike">
                <a:solidFill>
                  <a:srgbClr val="262626"/>
                </a:solidFill>
                <a:latin typeface="Arial"/>
              </a:rPr>
              <a:t>…</a:t>
            </a:r>
            <a:br>
              <a:rPr sz="3100"/>
            </a:br>
            <a:r>
              <a:rPr b="0" i="1" lang="ru-RU" sz="2600" spc="-1" strike="noStrike">
                <a:solidFill>
                  <a:srgbClr val="262626"/>
                </a:solidFill>
                <a:latin typeface="Arial"/>
              </a:rPr>
              <a:t>(какая информация нужна)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5C5-95D2-467E-8C03-776384848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3"/>
          <p:cNvSpPr/>
          <p:nvPr/>
        </p:nvSpPr>
        <p:spPr>
          <a:xfrm>
            <a:off x="762120" y="44956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66f54"/>
                </a:solidFill>
                <a:latin typeface="Arial"/>
              </a:rPr>
              <a:t>Когда я узнаю это, я </a:t>
            </a:r>
            <a:r>
              <a:rPr b="1" lang="en-US" sz="3500" spc="-1" strike="noStrike">
                <a:solidFill>
                  <a:srgbClr val="766f54"/>
                </a:solidFill>
                <a:latin typeface="Arial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766f54"/>
                </a:solidFill>
                <a:latin typeface="Arial"/>
              </a:rPr>
              <a:t>(как эта информация будет использов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4"/>
          <p:cNvSpPr/>
          <p:nvPr/>
        </p:nvSpPr>
        <p:spPr>
          <a:xfrm>
            <a:off x="457200" y="685800"/>
            <a:ext cx="8381880" cy="990720"/>
          </a:xfrm>
          <a:prstGeom prst="rect">
            <a:avLst/>
          </a:prstGeom>
          <a:solidFill>
            <a:srgbClr val="fb4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66f54"/>
                </a:solidFill>
                <a:latin typeface="Arial"/>
              </a:rPr>
              <a:t>Как сформулировать хороший вопрос</a:t>
            </a:r>
            <a:r>
              <a:rPr b="1" lang="en-US" sz="3000" spc="-1" strike="noStrike">
                <a:solidFill>
                  <a:srgbClr val="766f54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74A-F9A8-4F82-B44B-95CA12AEB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2"/>
          <p:cNvSpPr/>
          <p:nvPr/>
        </p:nvSpPr>
        <p:spPr>
          <a:xfrm>
            <a:off x="838080" y="260280"/>
            <a:ext cx="769644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хорошего вопрос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я ответа на этот вопро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получить информаци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помощью эмпирического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вопрос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заложен 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 нужд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олучении информации для ответа на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 и пользоваться информацией, хотят получить ответ на вопро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себ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а не для кого-то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т объяснить, как они будут использовать 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есть как ответ будет влиять на их дальнейши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08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Источники данных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819160" y="1052280"/>
            <a:ext cx="60958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ить, какие источники содержат наибольшее количество необходимой информации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установить взаимодействие с организациями, ответственными за сбор этих данных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разработать механизмы для сбора, обработки, интерпретации и презентации данных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85FA-5442-40F0-976D-5FDC170D09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655640" cy="136044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5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1871640" cy="1173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6" descr="j0090572"/>
          <p:cNvPicPr/>
          <p:nvPr/>
        </p:nvPicPr>
        <p:blipFill>
          <a:blip r:embed="rId3"/>
          <a:stretch/>
        </p:blipFill>
        <p:spPr>
          <a:xfrm>
            <a:off x="250920" y="4869000"/>
            <a:ext cx="1944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F41-4B94-4560-A814-18439041E3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4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12D4-0AE5-4A55-B957-1B0804C9E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сбора информации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ИНСТРУМЕНТЫ МОНИТОРИНГА и ОЦЕН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-360" y="1773000"/>
            <a:ext cx="3616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Анкетирова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блюде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нтервьюирование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окус-груп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зучение документац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4814640" y="1267920"/>
            <a:ext cx="4329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акторы, определяющие выбор метод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трат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требность в обучен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рок завершения рабо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ероятность получения отве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(Предполагаемая) объективность результа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40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149544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4" descr="j0282993"/>
          <p:cNvPicPr/>
          <p:nvPr/>
        </p:nvPicPr>
        <p:blipFill>
          <a:blip r:embed="rId2"/>
          <a:stretch/>
        </p:blipFill>
        <p:spPr>
          <a:xfrm>
            <a:off x="7575480" y="5429160"/>
            <a:ext cx="1568520" cy="1428840"/>
          </a:xfrm>
          <a:prstGeom prst="rect">
            <a:avLst/>
          </a:prstGeom>
          <a:ln w="0">
            <a:noFill/>
          </a:ln>
        </p:spPr>
      </p:pic>
      <p:pic>
        <p:nvPicPr>
          <p:cNvPr id="1642" name="Object 7" descr=""/>
          <p:cNvPicPr/>
          <p:nvPr/>
        </p:nvPicPr>
        <p:blipFill>
          <a:blip r:embed="rId3"/>
          <a:stretch/>
        </p:blipFill>
        <p:spPr>
          <a:xfrm>
            <a:off x="2643120" y="4714920"/>
            <a:ext cx="18464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50FB-5CFE-4083-A418-1C40A4A7A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ИНСТРУМЕНТЫ МОНИТОРИНГ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0" y="1125000"/>
            <a:ext cx="4284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Рекомендации по  анкет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оответствие: вопросы соответствуют  цели, уровню и возможностям респондент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опросы - ясные, по стилистике подходят сообществу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нкета несложная и  короткая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пробовать анкету - раздать небольшой группе</a:t>
            </a:r>
            <a:r>
              <a:rPr b="0" lang="ru-RU" sz="2000" spc="-1" strike="noStrike">
                <a:solidFill>
                  <a:srgbClr val="010002"/>
                </a:solidFill>
                <a:latin typeface="Century Gothic"/>
              </a:rPr>
              <a:t> людей, чтобы они рассказали о впечатлениях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Позволяют ли вопросы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получить нужную  информацию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Легко ли ее заполнять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Что можно убрать из анкеты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Что необходимо добавить?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4500720" y="928800"/>
            <a:ext cx="4643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нтервью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 –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едставляет собой личное общение с респондентом – задаются  вопросы и записываются ответы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прям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непосредственная беседа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опосредованн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беседа по телефону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формализованное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(заранее разрабатывается вопросник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фокусированн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в центр внимания конкретное явление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свободное интервью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(свободная беседа без заранее заданной темы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47" name="Picture 4" descr=""/>
          <p:cNvPicPr/>
          <p:nvPr/>
        </p:nvPicPr>
        <p:blipFill>
          <a:blip r:embed="rId1"/>
          <a:stretch/>
        </p:blipFill>
        <p:spPr>
          <a:xfrm>
            <a:off x="4500720" y="5452920"/>
            <a:ext cx="1484280" cy="140508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4" descr="j0079061"/>
          <p:cNvPicPr/>
          <p:nvPr/>
        </p:nvPicPr>
        <p:blipFill>
          <a:blip r:embed="rId2"/>
          <a:stretch/>
        </p:blipFill>
        <p:spPr>
          <a:xfrm>
            <a:off x="7286760" y="5357880"/>
            <a:ext cx="15444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C29E-03D9-4642-B3A7-EDA19C3E1B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232000" y="260280"/>
            <a:ext cx="69120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Tahoma"/>
              </a:rPr>
              <a:t>Принципы контроля</a:t>
            </a:r>
            <a:endParaRPr b="0" lang="en-US" sz="3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216080" y="1197000"/>
            <a:ext cx="7927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ahoma"/>
              </a:rPr>
              <a:t>Наличие методов измер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AutoShape 4"/>
          <p:cNvSpPr/>
          <p:nvPr/>
        </p:nvSpPr>
        <p:spPr>
          <a:xfrm>
            <a:off x="1763640" y="1773360"/>
            <a:ext cx="1079640" cy="1871640"/>
          </a:xfrm>
          <a:prstGeom prst="downArrow">
            <a:avLst>
              <a:gd name="adj1" fmla="val 50000"/>
              <a:gd name="adj2" fmla="val 43339"/>
            </a:avLst>
          </a:prstGeom>
          <a:solidFill>
            <a:srgbClr val="00b050">
              <a:alpha val="50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5"/>
          <p:cNvSpPr/>
          <p:nvPr/>
        </p:nvSpPr>
        <p:spPr>
          <a:xfrm>
            <a:off x="4356000" y="1773360"/>
            <a:ext cx="1224000" cy="1942920"/>
          </a:xfrm>
          <a:prstGeom prst="downArrow">
            <a:avLst>
              <a:gd name="adj1" fmla="val 50000"/>
              <a:gd name="adj2" fmla="val 39684"/>
            </a:avLst>
          </a:prstGeom>
          <a:solidFill>
            <a:srgbClr val="00b050">
              <a:alpha val="57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6"/>
          <p:cNvSpPr/>
          <p:nvPr/>
        </p:nvSpPr>
        <p:spPr>
          <a:xfrm>
            <a:off x="6732720" y="1773360"/>
            <a:ext cx="1224000" cy="1871640"/>
          </a:xfrm>
          <a:prstGeom prst="downArrow">
            <a:avLst>
              <a:gd name="adj1" fmla="val 50000"/>
              <a:gd name="adj2" fmla="val 38228"/>
            </a:avLst>
          </a:prstGeom>
          <a:solidFill>
            <a:srgbClr val="00b050">
              <a:alpha val="59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Picture 7" descr="j0090572"/>
          <p:cNvPicPr/>
          <p:nvPr/>
        </p:nvPicPr>
        <p:blipFill>
          <a:blip r:embed="rId1"/>
          <a:stretch/>
        </p:blipFill>
        <p:spPr>
          <a:xfrm>
            <a:off x="3564000" y="4221000"/>
            <a:ext cx="2376360" cy="21369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8"/>
          <p:cNvSpPr/>
          <p:nvPr/>
        </p:nvSpPr>
        <p:spPr>
          <a:xfrm>
            <a:off x="3276720" y="371628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деятель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9"/>
          <p:cNvSpPr/>
          <p:nvPr/>
        </p:nvSpPr>
        <p:spPr>
          <a:xfrm>
            <a:off x="6516720" y="3645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езульт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0"/>
          <p:cNvSpPr/>
          <p:nvPr/>
        </p:nvSpPr>
        <p:spPr>
          <a:xfrm>
            <a:off x="1332000" y="3716280"/>
            <a:ext cx="18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расх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Picture 11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2" descr="CASHGIVE"/>
          <p:cNvPicPr/>
          <p:nvPr/>
        </p:nvPicPr>
        <p:blipFill>
          <a:blip r:embed="rId3"/>
          <a:stretch/>
        </p:blipFill>
        <p:spPr>
          <a:xfrm>
            <a:off x="826920" y="4365720"/>
            <a:ext cx="23767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епосредственная регистрация событий: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39492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Заранее определена процеду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ведения фиксируются в протоколе или дневнике по определенной систем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Неструктурируемое: ситуация заранее не определена; нет строго пла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труктурируемо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Включенное – войти в среду и адаптироватьс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остое – взгляд «со стороны»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истематическое/ Случайно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8744-CD38-4DEA-B53B-5B702B22E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Picture 4" descr="j0331685"/>
          <p:cNvPicPr/>
          <p:nvPr/>
        </p:nvPicPr>
        <p:blipFill>
          <a:blip r:embed="rId1"/>
          <a:stretch/>
        </p:blipFill>
        <p:spPr>
          <a:xfrm>
            <a:off x="6948360" y="400536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0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кус-групп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23640" y="119700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большая группа (6-12 человек)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ная тем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30 минут до 2-х час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ждый отвечает на вопрос, дополняет друг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и развивают свои взгляды с точки зрения взглядов друг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астники фокусируют важную тем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большое количество вопрос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6E2-90C8-45D7-ACE7-78465A9162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4" descr="j0232383"/>
          <p:cNvPicPr/>
          <p:nvPr/>
        </p:nvPicPr>
        <p:blipFill>
          <a:blip r:embed="rId1"/>
          <a:stretch/>
        </p:blipFill>
        <p:spPr>
          <a:xfrm>
            <a:off x="6732720" y="0"/>
            <a:ext cx="22320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97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документо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Arial"/>
              </a:rPr>
              <a:t>Традиционный, классический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– умственные операции по выявлению сути материала и интерпретации сведений, с определенной точки зре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Внешний анализ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Внутренний анализ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Arial"/>
              </a:rPr>
              <a:t>Формализованный, количественный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(контент-анализ) – найти легко подсчитываемые признаки, черты, свойства документа (частота употребления), которые отражали бы определенные существенные стороны содержания текста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EB4A-68D2-483B-B6AF-04F842821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4" descr="j0341504"/>
          <p:cNvPicPr/>
          <p:nvPr/>
        </p:nvPicPr>
        <p:blipFill>
          <a:blip r:embed="rId1"/>
          <a:stretch/>
        </p:blipFill>
        <p:spPr>
          <a:xfrm>
            <a:off x="5148360" y="2338560"/>
            <a:ext cx="39956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ы, определяющие выбор методов сбора информаци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1128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трат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требность в обучении метод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роятность получения ответ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ок выполнения рабо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Предполагаемая)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ъективность результат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7A1-1EAB-4C3A-82F4-3CA19CFF0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7315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5" name="Object 5"/>
          <p:cNvGraphicFramePr/>
          <p:nvPr/>
        </p:nvGraphicFramePr>
        <p:xfrm>
          <a:off x="6012000" y="3716280"/>
          <a:ext cx="24080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716280"/>
                    <a:ext cx="2408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оличественное исследовани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0948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риентировано на проверку гипоте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ледует традиционной естественнонаучной модели исследований (экспериментальный дизайн, статистические методы анализа данных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Акцент на стандартизацию, точность, объективность, надежность, воспроизводимос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охранение заданного заранее «фокуса» исследова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327C-53A4-4028-8B28-F60C3A459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0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ачественное исследовани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60948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оводится в естественных условия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Использует исследователя как основной «инструмент» сбора и анализа данны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риентировано на выработку подробного («плотного») описа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Направлено на изучение как результата, так и процесс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едполагает разнообразные методы сбора данных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обенно часто – наблюдение и интервью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новано на индуктивном подходе к анализу данных (от частного к общему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9CAC-7CD8-4910-A4FF-D13042AD3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0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Arial"/>
              </a:rPr>
              <a:t>Выборка в качественном исследовании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584280" y="2209320"/>
            <a:ext cx="73404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Репрезентативнос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B96-5AD6-4D3E-BDFE-B133A49DF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4"/>
          <p:cNvSpPr/>
          <p:nvPr/>
        </p:nvSpPr>
        <p:spPr>
          <a:xfrm>
            <a:off x="914400" y="25146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5"/>
          <p:cNvSpPr/>
          <p:nvPr/>
        </p:nvSpPr>
        <p:spPr>
          <a:xfrm>
            <a:off x="60948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СООБРАЗ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 каких людей необходимо опросить, чтобы хорошо понять интересующее нас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31D9-E328-407D-BE2F-06CBD77ABA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2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66f54"/>
                </a:solidFill>
                <a:latin typeface="Arial"/>
              </a:rPr>
              <a:t>Примеры целесообразной выбор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3"/>
          <p:cNvSpPr/>
          <p:nvPr/>
        </p:nvSpPr>
        <p:spPr>
          <a:xfrm>
            <a:off x="60948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и, характеризующиеся высокой интенсивностью (либо экстрем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ка с максимально возможным разнообраз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нежный 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подтверждающих и опровергающих слу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0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ак избежать субъективности?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3CA-B210-4A45-94EE-97F89BAC98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3"/>
          <p:cNvSpPr/>
          <p:nvPr/>
        </p:nvSpPr>
        <p:spPr>
          <a:xfrm>
            <a:off x="762120" y="525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66f54"/>
                </a:solidFill>
                <a:latin typeface="Arial"/>
              </a:rPr>
              <a:t>Как остаться нейтральным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4"/>
          <p:cNvSpPr/>
          <p:nvPr/>
        </p:nvSpPr>
        <p:spPr>
          <a:xfrm>
            <a:off x="5796000" y="28195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йтр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5"/>
          <p:cNvSpPr/>
          <p:nvPr/>
        </p:nvSpPr>
        <p:spPr>
          <a:xfrm>
            <a:off x="3506400" y="441792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 Box 6"/>
          <p:cNvSpPr/>
          <p:nvPr/>
        </p:nvSpPr>
        <p:spPr>
          <a:xfrm>
            <a:off x="3505320" y="159876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7"/>
          <p:cNvSpPr/>
          <p:nvPr/>
        </p:nvSpPr>
        <p:spPr>
          <a:xfrm>
            <a:off x="1154880" y="28432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вз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8"/>
          <p:cNvSpPr/>
          <p:nvPr/>
        </p:nvSpPr>
        <p:spPr>
          <a:xfrm>
            <a:off x="4191120" y="2209680"/>
            <a:ext cx="685800" cy="1981440"/>
          </a:xfrm>
          <a:prstGeom prst="upDownArrow">
            <a:avLst>
              <a:gd name="adj1" fmla="val 50000"/>
              <a:gd name="adj2" fmla="val 575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9"/>
          <p:cNvSpPr/>
          <p:nvPr/>
        </p:nvSpPr>
        <p:spPr>
          <a:xfrm>
            <a:off x="3352680" y="1523880"/>
            <a:ext cx="24386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0"/>
          <p:cNvSpPr/>
          <p:nvPr/>
        </p:nvSpPr>
        <p:spPr>
          <a:xfrm rot="16200000">
            <a:off x="4228920" y="2171160"/>
            <a:ext cx="685800" cy="1981440"/>
          </a:xfrm>
          <a:prstGeom prst="upDownArrow">
            <a:avLst>
              <a:gd name="adj1" fmla="val 50000"/>
              <a:gd name="adj2" fmla="val 575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0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F23-B434-4FF5-9176-44CBE88E3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2"/>
          <p:cNvSpPr/>
          <p:nvPr/>
        </p:nvSpPr>
        <p:spPr>
          <a:xfrm>
            <a:off x="83808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В какой мере можно доверять полученным д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Picture 3" descr="BD05219_"/>
          <p:cNvPicPr/>
          <p:nvPr/>
        </p:nvPicPr>
        <p:blipFill>
          <a:blip r:embed="rId1"/>
          <a:stretch/>
        </p:blipFill>
        <p:spPr>
          <a:xfrm>
            <a:off x="1143000" y="1981080"/>
            <a:ext cx="1066680" cy="99864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4" descr="BL00393_"/>
          <p:cNvPicPr/>
          <p:nvPr/>
        </p:nvPicPr>
        <p:blipFill>
          <a:blip r:embed="rId2"/>
          <a:stretch/>
        </p:blipFill>
        <p:spPr>
          <a:xfrm>
            <a:off x="6705720" y="2514600"/>
            <a:ext cx="744480" cy="94464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5" descr="PE03254_"/>
          <p:cNvPicPr/>
          <p:nvPr/>
        </p:nvPicPr>
        <p:blipFill>
          <a:blip r:embed="rId3"/>
          <a:stretch/>
        </p:blipFill>
        <p:spPr>
          <a:xfrm>
            <a:off x="2819520" y="5334120"/>
            <a:ext cx="1066680" cy="96192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6" descr="BD06663_"/>
          <p:cNvPicPr/>
          <p:nvPr/>
        </p:nvPicPr>
        <p:blipFill>
          <a:blip r:embed="rId4"/>
          <a:stretch/>
        </p:blipFill>
        <p:spPr>
          <a:xfrm>
            <a:off x="3200400" y="2666880"/>
            <a:ext cx="1879560" cy="1630440"/>
          </a:xfrm>
          <a:prstGeom prst="rect">
            <a:avLst/>
          </a:prstGeom>
          <a:ln w="0">
            <a:noFill/>
          </a:ln>
        </p:spPr>
      </p:pic>
      <p:sp>
        <p:nvSpPr>
          <p:cNvPr id="1697" name="Line 7"/>
          <p:cNvSpPr/>
          <p:nvPr/>
        </p:nvSpPr>
        <p:spPr>
          <a:xfrm flipV="1">
            <a:off x="3581280" y="4191120"/>
            <a:ext cx="12956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8"/>
          <p:cNvSpPr/>
          <p:nvPr/>
        </p:nvSpPr>
        <p:spPr>
          <a:xfrm>
            <a:off x="2057400" y="2971800"/>
            <a:ext cx="2971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9"/>
          <p:cNvSpPr/>
          <p:nvPr/>
        </p:nvSpPr>
        <p:spPr>
          <a:xfrm flipH="1">
            <a:off x="4571640" y="3505320"/>
            <a:ext cx="213372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0"/>
          <p:cNvSpPr/>
          <p:nvPr/>
        </p:nvSpPr>
        <p:spPr>
          <a:xfrm>
            <a:off x="5181120" y="4572000"/>
            <a:ext cx="3010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ИАНГУЛЯЦ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следова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A410-DBA2-4FFB-BC22-76DACD2591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27280" y="33336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ИНСТРУМЕНТЫ КОНТРОЛ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-360" y="3254040"/>
            <a:ext cx="31971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254061"/>
                </a:solidFill>
                <a:latin typeface="Tahoma"/>
              </a:rPr>
              <a:t>Мониторинг. 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254061"/>
                </a:solidFill>
                <a:latin typeface="Tahoma"/>
              </a:rPr>
              <a:t>Оценка.</a:t>
            </a:r>
            <a:r>
              <a:rPr b="1" lang="ru-RU" sz="1700" spc="-1" strike="noStrike">
                <a:solidFill>
                  <a:srgbClr val="25406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84" name="Picture 4" descr="астролябия licod25b"/>
          <p:cNvPicPr/>
          <p:nvPr/>
        </p:nvPicPr>
        <p:blipFill>
          <a:blip r:embed="rId1"/>
          <a:stretch/>
        </p:blipFill>
        <p:spPr>
          <a:xfrm>
            <a:off x="4786200" y="2071800"/>
            <a:ext cx="38512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B5A-7710-43B1-9A3A-B781EB290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3A7-4EC4-40E5-9010-1B58CDB7CA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Group 3"/>
          <p:cNvGrpSpPr/>
          <p:nvPr/>
        </p:nvGrpSpPr>
        <p:grpSpPr>
          <a:xfrm>
            <a:off x="1219320" y="838080"/>
            <a:ext cx="7162560" cy="5257440"/>
            <a:chOff x="1219320" y="838080"/>
            <a:chExt cx="7162560" cy="5257440"/>
          </a:xfrm>
        </p:grpSpPr>
        <p:sp>
          <p:nvSpPr>
            <p:cNvPr id="1707" name="Rectangle 4"/>
            <p:cNvSpPr/>
            <p:nvPr/>
          </p:nvSpPr>
          <p:spPr>
            <a:xfrm>
              <a:off x="1219320" y="838080"/>
              <a:ext cx="362232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ученные данные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ы, свидетельства, эмпирические результаты, то, что мы узна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5"/>
            <p:cNvSpPr/>
            <p:nvPr/>
          </p:nvSpPr>
          <p:spPr>
            <a:xfrm>
              <a:off x="4841640" y="838080"/>
              <a:ext cx="218592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6"/>
            <p:cNvSpPr/>
            <p:nvPr/>
          </p:nvSpPr>
          <p:spPr>
            <a:xfrm>
              <a:off x="7027920" y="838080"/>
              <a:ext cx="135396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7"/>
            <p:cNvSpPr/>
            <p:nvPr/>
          </p:nvSpPr>
          <p:spPr>
            <a:xfrm>
              <a:off x="1219320" y="1759320"/>
              <a:ext cx="145836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8"/>
            <p:cNvSpPr/>
            <p:nvPr/>
          </p:nvSpPr>
          <p:spPr>
            <a:xfrm>
              <a:off x="2677680" y="1759320"/>
              <a:ext cx="434988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претации (объяснения)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ъяснение полученных данных, взаимосвязей между ними, объяснение причи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9"/>
            <p:cNvSpPr/>
            <p:nvPr/>
          </p:nvSpPr>
          <p:spPr>
            <a:xfrm>
              <a:off x="7027920" y="1759320"/>
              <a:ext cx="135396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0"/>
            <p:cNvSpPr/>
            <p:nvPr/>
          </p:nvSpPr>
          <p:spPr>
            <a:xfrm>
              <a:off x="1219320" y="2965320"/>
              <a:ext cx="145836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1"/>
            <p:cNvSpPr/>
            <p:nvPr/>
          </p:nvSpPr>
          <p:spPr>
            <a:xfrm>
              <a:off x="2677680" y="2965320"/>
              <a:ext cx="207504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2"/>
            <p:cNvSpPr/>
            <p:nvPr/>
          </p:nvSpPr>
          <p:spPr>
            <a:xfrm>
              <a:off x="4753080" y="2965320"/>
              <a:ext cx="362844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воды (заключения,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уждения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чение полученных данных – хорошо или плохо, мало или много, позитивно или негативно, в желательном или нежелательном направлени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3"/>
            <p:cNvSpPr/>
            <p:nvPr/>
          </p:nvSpPr>
          <p:spPr>
            <a:xfrm>
              <a:off x="1219320" y="4241520"/>
              <a:ext cx="145836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"/>
            <p:cNvSpPr/>
            <p:nvPr/>
          </p:nvSpPr>
          <p:spPr>
            <a:xfrm>
              <a:off x="2677680" y="4241520"/>
              <a:ext cx="207504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5"/>
            <p:cNvSpPr/>
            <p:nvPr/>
          </p:nvSpPr>
          <p:spPr>
            <a:xfrm>
              <a:off x="4753080" y="4241520"/>
              <a:ext cx="123696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6"/>
            <p:cNvSpPr/>
            <p:nvPr/>
          </p:nvSpPr>
          <p:spPr>
            <a:xfrm>
              <a:off x="5990040" y="4241520"/>
              <a:ext cx="230400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2280" bIns="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коменд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лагаемые направления действий, предлагаемые изменения в программ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чего не следует менять, советы вс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з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интересованным сторона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D89-EBBA-44E5-A58B-A1A813BF7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1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7D3C-CAF0-452B-AAFA-87415B3F1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2"/>
          <p:cNvSpPr/>
          <p:nvPr/>
        </p:nvSpPr>
        <p:spPr>
          <a:xfrm>
            <a:off x="684360" y="6206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Arial"/>
              </a:rPr>
              <a:t>Характеристики хорошего от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900000" y="1963800"/>
            <a:ext cx="78487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тная и обоснованная метод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ий фо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 txBox="1"/>
          <p:nvPr/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</a:rPr>
              <a:t>«</a:t>
            </a: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ценка программы/проекта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– это систематический сбор информации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 деятельности в рамках программы, ее характеристиках  и результатах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</a:rPr>
              <a:t>к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орый проводится для того, чтобы вынести суждение о программе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овысить эффективность программы и/или разработать планы на будуще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</a:rPr>
              <a:t>»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(Patton, 1997)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3C3-D20D-4B2D-BB4A-DD7DE2F01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C9A4-BB5C-41CA-9D6F-F718955FA0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2"/>
          <p:cNvSpPr/>
          <p:nvPr/>
        </p:nvSpPr>
        <p:spPr>
          <a:xfrm rot="16252200">
            <a:off x="4914720" y="1942920"/>
            <a:ext cx="2666880" cy="289548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3720 h 2895480"/>
              <a:gd name="textAreaBottom" fmla="*/ 2471760 h 289548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AutoShape 3"/>
          <p:cNvSpPr/>
          <p:nvPr/>
        </p:nvSpPr>
        <p:spPr>
          <a:xfrm flipH="1" rot="5541000">
            <a:off x="1865880" y="194292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AutoShape 4"/>
          <p:cNvSpPr/>
          <p:nvPr/>
        </p:nvSpPr>
        <p:spPr>
          <a:xfrm rot="14037000">
            <a:off x="4490640" y="2291760"/>
            <a:ext cx="2676600" cy="2857320"/>
          </a:xfrm>
          <a:custGeom>
            <a:avLst/>
            <a:gdLst>
              <a:gd name="textAreaLeft" fmla="*/ 391680 w 2676600"/>
              <a:gd name="textAreaRight" fmla="*/ 2284920 w 2676600"/>
              <a:gd name="textAreaTop" fmla="*/ 418320 h 2857320"/>
              <a:gd name="textAreaBottom" fmla="*/ 2439000 h 285732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7822"/>
                  <a:pt x="13777" y="5409"/>
                  <a:pt x="10800" y="5409"/>
                </a:cubicBezTo>
                <a:cubicBezTo>
                  <a:pt x="9814" y="5408"/>
                  <a:pt x="8848" y="5678"/>
                  <a:pt x="8006" y="6189"/>
                </a:cubicBezTo>
                <a:lnTo>
                  <a:pt x="5202" y="1563"/>
                </a:lnTo>
                <a:cubicBezTo>
                  <a:pt x="6890" y="540"/>
                  <a:pt x="88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5"/>
          <p:cNvSpPr/>
          <p:nvPr/>
        </p:nvSpPr>
        <p:spPr>
          <a:xfrm flipH="1" rot="7563000">
            <a:off x="2324160" y="224784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7822"/>
                  <a:pt x="13777" y="5409"/>
                  <a:pt x="10800" y="5409"/>
                </a:cubicBezTo>
                <a:cubicBezTo>
                  <a:pt x="9814" y="5408"/>
                  <a:pt x="8848" y="5678"/>
                  <a:pt x="8006" y="6189"/>
                </a:cubicBezTo>
                <a:lnTo>
                  <a:pt x="5202" y="1563"/>
                </a:lnTo>
                <a:cubicBezTo>
                  <a:pt x="6890" y="540"/>
                  <a:pt x="88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6"/>
          <p:cNvSpPr/>
          <p:nvPr/>
        </p:nvSpPr>
        <p:spPr>
          <a:xfrm flipH="1" rot="13704600">
            <a:off x="1789560" y="2628720"/>
            <a:ext cx="2666880" cy="289548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3720 h 2895480"/>
              <a:gd name="textAreaBottom" fmla="*/ 2471760 h 289548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b4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7"/>
          <p:cNvSpPr/>
          <p:nvPr/>
        </p:nvSpPr>
        <p:spPr>
          <a:xfrm rot="7895400">
            <a:off x="5067360" y="262872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b4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1371240" y="555480"/>
            <a:ext cx="179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5236560" y="512640"/>
            <a:ext cx="34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890520" y="358128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2895480" y="571500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ТАНОВКА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736440" y="16002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536040" y="1828800"/>
            <a:ext cx="193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ин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7165080" y="198108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6783840" y="426708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ширить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глуб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щ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688320" y="4343400"/>
            <a:ext cx="201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инят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96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entury Gothic"/>
              </a:rPr>
              <a:t>Оценка</a:t>
            </a:r>
            <a:r>
              <a:rPr b="0" lang="ru-RU" sz="3100" spc="-1" strike="noStrike">
                <a:solidFill>
                  <a:srgbClr val="003366"/>
                </a:solidFill>
                <a:latin typeface="Century Gothic"/>
              </a:rPr>
              <a:t>: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178920" y="907920"/>
            <a:ext cx="87361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ение достоинства или ценности программ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истематический сбор информации для заранее определенных пользователей, с заранее определенными целями по широкому кругу вопросов, связанных с программой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змерение результатов программы и сопоставление их с задачами, которые эта программа должна реш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редство содействия последующему принятию решений  относительно программы, а также  улучшению процесса разработки программ в будущ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EBB-C88A-4169-8031-38CA4170E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26:15Z</dcterms:created>
  <dc:creator>Alex</dc:creator>
  <dc:description/>
  <dc:language>en-US</dc:language>
  <cp:lastModifiedBy>User146-01</cp:lastModifiedBy>
  <dcterms:modified xsi:type="dcterms:W3CDTF">2025-01-17T11:42:52Z</dcterms:modified>
  <cp:revision>34</cp:revision>
  <dc:subject/>
  <dc:title>Оценка программ</dc:title>
</cp:coreProperties>
</file>