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70B-496E-4074-BBB8-98BFDA6D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E38-B926-455F-BB94-C8995C1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2E4-EE14-4EDF-8DFC-19DB4493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F46-C364-45AC-9FBD-152215EB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E715-8E62-4471-B5C0-A915C19B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12C5-0A43-4489-B15E-979904D6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58F-CC73-48E7-B148-155CF57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36C6-F777-44EC-96DF-C2FB80F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C310-A044-486E-B468-772F9B36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B12A-4C00-4551-933B-D88E819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650A-2BD5-47B8-ABFA-2CB5EDF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B21-AB95-4105-9277-9AAB7C9D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52DF-9BAD-476E-AE50-BC554D2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137-FC15-4A96-A2A0-46ECB10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EEB-BD0A-46F1-9928-07A3612D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465-53E8-47EC-BA9B-3A4AB66A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2B48-FDDC-45BD-BC1C-B6D9F4C0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2A7-CE5D-4404-9087-80A44DD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079-F00D-41D7-B127-C54521D5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FCA-6C67-4E73-ADAE-D958EBD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02F-00C4-47F1-942D-ABB816FD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676-331B-4C86-89FF-1C41029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529-3379-4F94-B26A-D88B901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03A-A856-4570-A11A-7059F1FE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0CE2-E6EC-4D46-B13A-9C7FA8E6A8D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131-CBB9-48E7-BAAA-CBCB5FE7DF8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160" y="1920960"/>
            <a:ext cx="8821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схема_1.bmp"/>
          <p:cNvPicPr/>
          <p:nvPr/>
        </p:nvPicPr>
        <p:blipFill>
          <a:blip r:embed="rId2"/>
          <a:stretch/>
        </p:blipFill>
        <p:spPr>
          <a:xfrm>
            <a:off x="420840" y="853920"/>
            <a:ext cx="8369280" cy="553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программных средств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проверяемого объекта некоторому эталонному объекту или совокупности более или менее формализованных характеристик и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тепень соответствия исходных текстов программ формализованным правилам языков спецификаций и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нструктив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им структуры общих правил структурного программирования и конкретным правилам оформления и внутренних построения программных модулей в данном зака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Функциональ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корректность обработки исходных данных и получение результат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данных определяется правилами их структурирования и упорядочи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данных связана в основном с конкретизацией их содержания в процессе использования программ, а также при подготовке данных внешним оппонент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программных модулей определяется правилами структурного модульного построения программных комплексов и общими правилами организации межмодульных связ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составляющее может быть проверено формализованными автоматизированными метод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комплексов программ наиболее трудно формируется вследствие большого количества возможных эталонных значений и распредел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иболее сложном случае, для программ реального времени, можно разделить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рминированную корректность – должно быть обеспечено однозначное соответствие исходных и результирующих программ определяющее эталонное значе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охастическую корректность  – статическое соответствие распределений и результирующих случайных величин заданным эталонным распределениям при соответствующих распределениях исходных данн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ческую корректность – это соответствие изменяющихся во времени результатов использования программ эталонным данны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интаксический контроль корректности текстов программ</a:t>
            </a:r>
            <a:r>
              <a:rPr b="1" i="1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входного текста программы на соответствие синтаксису языка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емантический контроль корректности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корректности применения и взаимодействия базовых конструкций языка программирования в тексте проверяемой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Формализованный структурный контроль программ основывается на статистической проверке соответствия структуры программы и последовательности основных операций использования памяти в системе эталонных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Верификация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(подтверждение правильности) состоит в проверке и доказательстве корректности разработанной программы по отношению к совокупности формальных утверждений представленных программных спецификаций и полностью определяющем связи между входными и выходными данными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87" name="Организационная диаграмма 39" descr=""/>
          <p:cNvPicPr/>
          <p:nvPr/>
        </p:nvPicPr>
        <p:blipFill>
          <a:blip r:embed="rId2"/>
          <a:stretch/>
        </p:blipFill>
        <p:spPr>
          <a:xfrm>
            <a:off x="450720" y="762120"/>
            <a:ext cx="8242560" cy="556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511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480960" y="1127160"/>
            <a:ext cx="8242200" cy="518796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7"/>
          <p:cNvGrpSpPr/>
          <p:nvPr/>
        </p:nvGrpSpPr>
        <p:grpSpPr>
          <a:xfrm>
            <a:off x="6215040" y="5176800"/>
            <a:ext cx="1785960" cy="1181160"/>
            <a:chOff x="6215040" y="5176800"/>
            <a:chExt cx="1785960" cy="1181160"/>
          </a:xfrm>
        </p:grpSpPr>
        <p:sp>
          <p:nvSpPr>
            <p:cNvPr id="91" name="Скругленный прямоугольник 8"/>
            <p:cNvSpPr/>
            <p:nvPr/>
          </p:nvSpPr>
          <p:spPr>
            <a:xfrm>
              <a:off x="6215040" y="5214600"/>
              <a:ext cx="1785960" cy="1062360"/>
            </a:xfrm>
            <a:prstGeom prst="roundRect">
              <a:avLst>
                <a:gd name="adj" fmla="val 10000"/>
              </a:avLst>
            </a:prstGeom>
            <a:solidFill>
              <a:srgbClr val="6795c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Скругленный прямоугольник 4"/>
            <p:cNvSpPr/>
            <p:nvPr/>
          </p:nvSpPr>
          <p:spPr>
            <a:xfrm>
              <a:off x="6240240" y="5176800"/>
              <a:ext cx="173520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тклонение от эталон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Группа 15"/>
          <p:cNvGrpSpPr/>
          <p:nvPr/>
        </p:nvGrpSpPr>
        <p:grpSpPr>
          <a:xfrm>
            <a:off x="5616720" y="5673240"/>
            <a:ext cx="555480" cy="153360"/>
            <a:chOff x="5616720" y="5673240"/>
            <a:chExt cx="555480" cy="153360"/>
          </a:xfrm>
        </p:grpSpPr>
        <p:sp>
          <p:nvSpPr>
            <p:cNvPr id="94" name="Стрелка вниз 16"/>
            <p:cNvSpPr/>
            <p:nvPr/>
          </p:nvSpPr>
          <p:spPr>
            <a:xfrm rot="16196400">
              <a:off x="5817960" y="5472000"/>
              <a:ext cx="152640" cy="555480"/>
            </a:xfrm>
            <a:prstGeom prst="downArrow">
              <a:avLst>
                <a:gd name="adj1" fmla="val 50000"/>
                <a:gd name="adj2" fmla="val 25811"/>
              </a:avLst>
            </a:prstGeom>
            <a:solidFill>
              <a:srgbClr val="69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Стрелка вниз 4"/>
            <p:cNvSpPr/>
            <p:nvPr/>
          </p:nvSpPr>
          <p:spPr>
            <a:xfrm rot="5396400">
              <a:off x="5864040" y="5583240"/>
              <a:ext cx="604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615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7488360" cy="5832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71520" y="66600"/>
            <a:ext cx="8394480" cy="513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9" descr="схема_2.bmp"/>
          <p:cNvPicPr/>
          <p:nvPr/>
        </p:nvPicPr>
        <p:blipFill>
          <a:blip r:embed="rId2"/>
          <a:stretch/>
        </p:blipFill>
        <p:spPr>
          <a:xfrm>
            <a:off x="633240" y="493560"/>
            <a:ext cx="7944120" cy="615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7:27:54Z</dcterms:created>
  <dc:creator>Sergei</dc:creator>
  <dc:description/>
  <dc:language>en-US</dc:language>
  <cp:lastModifiedBy>vpi31</cp:lastModifiedBy>
  <dcterms:modified xsi:type="dcterms:W3CDTF">2008-10-31T14:37:53Z</dcterms:modified>
  <cp:revision>30</cp:revision>
  <dc:subject/>
  <dc:title>Корректность программных средств</dc:title>
</cp:coreProperties>
</file>