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camera.wav" ContentType="audio/x-wav"/>
  <Override PartName="/ppt/media/image16.gif" ContentType="image/gif"/>
  <Override PartName="/ppt/media/image12.wmf" ContentType="image/x-wmf"/>
  <Override PartName="/ppt/media/image15.gif" ContentType="image/gif"/>
  <Override PartName="/ppt/media/image5.jpeg" ContentType="image/jpeg"/>
  <Override PartName="/ppt/media/image11.wmf" ContentType="image/x-wmf"/>
  <Override PartName="/ppt/media/image17.png" ContentType="image/png"/>
  <Override PartName="/ppt/media/image20.wmf" ContentType="image/x-wmf"/>
  <Override PartName="/ppt/media/image14.gif" ContentType="image/gif"/>
  <Override PartName="/ppt/media/image10.wmf" ContentType="image/x-wmf"/>
  <Override PartName="/ppt/media/image13.wmf" ContentType="image/x-wmf"/>
  <Override PartName="/ppt/media/image34.gif" ContentType="image/gif"/>
  <Override PartName="/ppt/media/image35.wmf" ContentType="image/x-wmf"/>
  <Override PartName="/ppt/media/image33.gif" ContentType="image/gi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38.jpeg" ContentType="image/jpeg"/>
  <Override PartName="/ppt/media/image31.wmf" ContentType="image/x-wmf"/>
  <Override PartName="/ppt/media/image43.wmf" ContentType="image/x-wmf"/>
  <Override PartName="/ppt/media/image44.wmf" ContentType="image/x-wmf"/>
  <Override PartName="/ppt/media/image4.jpeg" ContentType="image/jpeg"/>
  <Override PartName="/ppt/media/image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8.wmf" ContentType="image/x-wmf"/>
  <Override PartName="/ppt/media/image39.wmf" ContentType="image/x-wmf"/>
  <Override PartName="/ppt/media/image9.wmf" ContentType="image/x-wmf"/>
  <Override PartName="/ppt/media/image18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9.gif" ContentType="image/gif"/>
  <Override PartName="/ppt/media/image25.wmf" ContentType="image/x-wmf"/>
  <Override PartName="/ppt/media/image1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  <p:sldId id="317" r:id="rId83"/>
    <p:sldId id="318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slide" Target="slides/slide62.xml"/><Relationship Id="rId84" Type="http://schemas.openxmlformats.org/officeDocument/2006/relationships/slide" Target="slides/slide63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dt" idx="5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ftr" idx="5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 type="sldNum" idx="6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C2BF-3253-40F6-83D9-8A34ACE66E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A0EC-BA21-4C47-9CB4-19085A679F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DDEE-6A77-41E1-893D-0864F88F8C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1991-2F92-4D1D-A725-0161FA0C1C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8CAB-753F-4EC2-8D76-37B8B41799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1F3A-57F9-466D-AEBA-27D7D68BF487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BCDA-107D-4D05-98B1-B7868A58FD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EC15-DFBC-4A92-A469-C26123C02439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DB55-EF4E-4886-B43C-C5A08C087C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F1FA-7941-4DAD-B4CC-DE1ED6ACC3F8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38DC-8380-4E4F-9814-D7CADD8D99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218F-8181-4DD0-A920-0858FD6426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7686-52AA-46FA-B928-276BFF1129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D368-6B30-43B1-991F-29021FBB03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62BF-397C-4502-AD28-85DAE99398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6600-4653-4BAF-9D18-2F73E2C648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4F8B-8265-419C-94AB-F0AC5071F3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75BC-6A51-4B0C-82A8-F46DBC6E48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Номер слайда 3"/>
          <p:cNvSpPr/>
          <p:nvPr/>
        </p:nvSpPr>
        <p:spPr>
          <a:xfrm>
            <a:off x="6143760" y="864396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3857-6E5D-40F6-A701-F5A34B69CA6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6B96-8527-44EB-9D07-0A87E70916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736C-1C5E-4A3D-BF53-E651BC07B95F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AC72-27D8-4C4A-AEA9-EED0CAB498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C61F-CACD-4341-A093-F04971B2D4DA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504B-23C7-47B8-8F66-2F1AC6651A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B48-8B65-4C32-BDCD-D1F0C2D307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Номер слайда 3"/>
          <p:cNvSpPr/>
          <p:nvPr/>
        </p:nvSpPr>
        <p:spPr>
          <a:xfrm>
            <a:off x="6143760" y="864396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B1BB-93A0-4BC9-BD20-B1A1C2BC4BD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6975-B14F-4C87-ADC4-71C20678B7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12B-B1F7-4DDA-A9EA-149CACE1566D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8663-0C39-4F09-A21D-58C160058A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2135-E374-465B-9D4C-CEE5895A05A9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6119-582A-4B68-BF1A-A679C325AD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7A1B-F0FF-4B96-B768-9F62F779B1CD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7FA5-76B3-489F-B292-CFAE909EC8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5A4B-870E-437D-AC12-CD143CF588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CAFC-0D47-4A1B-B7C5-70074CFF23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ABE6-F39A-40C2-8B3F-B3F6EFB6B9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B15C-D307-4154-82F6-72EADDC6DE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628D-29FD-4FD7-A893-A6DE3DB14B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068C-323B-4105-813F-D6F405D9F1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6C07-EDE3-426B-AB05-BD7E4E7317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1997-74F0-4F9F-A7F4-A40B0F1407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CAF5-C992-449C-A749-154544D886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0FD-D556-4D8F-8492-99E3F6FEA3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55B8-2313-4C52-84B5-2D5BCAAE3EB1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C3C4-7570-4B95-BA71-27B52620BB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9A89-2096-47DA-9E70-4F989015EF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95E7-CC4E-4231-8DBE-1D3EE95C73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E069-F073-4306-9ED2-A807B93D98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3BBF-DFD3-407F-9640-FEB142BB86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5F96-5420-457F-82A3-774F828463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2524-3F3E-48F3-A81F-3B6E1A1B11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0B0F-2112-41E9-9D18-D84CFC75C8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9283-675B-4DBF-A123-6BE822B11D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Номер слайда 3"/>
          <p:cNvSpPr/>
          <p:nvPr/>
        </p:nvSpPr>
        <p:spPr>
          <a:xfrm>
            <a:off x="6143760" y="864396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B581-21E6-4C0A-8D1C-A7734FA1EFB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951A-7BE1-4AA5-9BEB-26EC7BC1ED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Номер слайда 3"/>
          <p:cNvSpPr/>
          <p:nvPr/>
        </p:nvSpPr>
        <p:spPr>
          <a:xfrm>
            <a:off x="6143760" y="864396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960E-B5E9-4FFC-846A-F7069A705C8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E8AB-71A2-48DA-8099-67226D7897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9C1-7CD3-4682-A5B4-100C34C2356B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5C11-6774-41F4-A4B5-DFA3163903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398600" y="38088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458640" y="3579840"/>
            <a:ext cx="601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CBF6-A676-416E-AE1F-720CD77B1A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53C8-1BCE-40AF-987A-5B38BE2EF1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1DD7-BC27-4324-A679-08792DC75E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8AE2-3BE3-4B8C-A61F-E533D54E8E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45E7-8860-42E4-B6F5-E8708E55C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1291-5C16-4AB7-848C-8171B57C0F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3D5A-05C3-47F3-889A-A0FD0D004D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08FE-7EA6-49D7-833E-791F610FF28A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0992-345D-4255-B364-FB44B3A80D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B89B-C1D6-465B-A7A2-A303FCFE26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97EB-59C3-4341-9854-5429C30505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59C6-3356-4501-B87F-656DBD0A26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239D-65CB-4640-A780-3492A3DAAF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7C57-B7B4-4961-81ED-928BA6BFD9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6BF7-F838-433C-A1C3-7C13DDB49B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646-B22E-453A-9B4D-9E815ACF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F62-E883-4A27-AF02-4176E233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290C3-7E22-48FD-B796-572CD27D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35661-6D14-4A95-8EA5-C22F6DDB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FA8AD-E0A3-4DEE-8F6C-37CAEA84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2D205-BF97-46F8-B82D-0A3D97D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78B99-A167-4C92-A8B3-740C34A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7158A-81C8-4A4E-BCDE-1027518B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0BF53-9B1C-48D5-85A6-543240A7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D0ECB-30E1-4A36-BBAD-81071D5E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905FC-35DC-4BFF-93A9-3E2F7A05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2B196-03F2-4995-B2E2-59C85551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FB2-01C1-4A26-B418-A297408C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BB8FD-CF4D-4485-B2CB-743A8145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8777F-0624-4E17-B9C3-D61A23C8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CCAA8-5C4C-4C65-84B6-446C8D25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CD735-E65E-493A-83AD-7080DBA5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9B296-9380-417B-A9DC-8CD41D64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CB51B-724C-45FC-AA01-2A383F9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A7659-4060-43FE-9895-E555F49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167C3-9694-44EF-B851-91877443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A9E05-1614-4132-A3C5-1CE05AC5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98B2B-C57E-4C2D-811F-E208D6BC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036-204C-44A6-A0EC-7BE686B0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9ABBB-3744-4AF8-96A9-1F00174A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402E3-92D4-4D12-BAF6-59F24CEA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8AF1C-B0DF-46BD-AFF6-1FE732CE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4E0C8-EF69-4E6D-9660-112C2ED0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24A93-2B85-4361-9E55-FDB46699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F9F5C-1B48-481C-86E4-811FB0B3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B01A3-3440-455E-9510-635B104D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EB97B-A937-454D-8D9C-AB3289B9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4EFED-F818-4E1D-BC5A-5577B02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DD959-B236-45B9-A795-FDBD6E05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4D0C-D4CF-4E70-8290-6A9DD7CF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21968-788D-4278-A926-0304CC94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51E31-CACC-4DFE-ABCF-2005ED7C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29B2F-EFAF-45DA-8941-E65A5678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47926-AAE7-4BAF-A71C-3FD23790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3F3B3-686E-47C9-80A9-46AA24A6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66752-8C8C-4645-B6F2-8B03D44E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BFB42-9120-4BD8-925C-B3A4A5DA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68071-4A45-42AC-B203-09DDBE0C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4A504-6D0E-4774-B37F-24AC2381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95EEE-DD5C-4F28-A2B8-A21B2947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5F54-6D13-4038-875B-F0ACC04C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50C7C-10EE-428E-A89D-623C5682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F1ACC-AC49-4B3B-BA8F-77CB3D1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BF6D9-2FEF-4F90-A502-9DB59A08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4DF06-F5D8-42B1-ACA5-1514A81C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56FDB-D9A5-4551-95C7-F90D339D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DDB70-78A1-4995-BBB1-756B7062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6080B-E0F4-47C1-8F2F-2C5E64E6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989FC-2506-4F2A-A28B-F8389A5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4A797-93C6-4F5D-8A80-ADF79643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28F3A-F0AA-41F1-B76B-04FDAF0F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B058-EC7E-4C45-9A80-8072853A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E84CD-BE6A-49E0-AD50-46B0FD7F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D8D25-5A52-42FA-B967-1D3599C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12383-AB89-468C-A90B-54223FB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7D1EC-4000-4719-B242-788353C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FFDF1-756D-4E42-88F0-7F4B6FDB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995A0-485E-42CC-B6D6-ABF86E62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91812-FB1D-41BB-A079-1AE70B1C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F9ED4-A76E-493B-9442-8B57BDD6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12931-7FF3-4008-8BB0-371929A5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9427D-866D-4CB1-AD5C-7E2BE578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4B9-83CF-40B2-B0CA-5AA7F6DF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AD68D-2980-41B6-A225-0AF8E2D1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A5EA3-A1E6-454D-97B4-A11C45B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894F2-A047-4587-9D80-57E1CF42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97C2E-5D89-45F7-AD24-C239C0D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DF5B9-9175-495C-AF6E-241DF9CB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2C54F-8212-4C16-9A9F-76DF07E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88769-AFE4-484C-87B9-EE44E8EB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E0E52-C955-49C7-8085-6FD9C2B0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402A3-33D5-47DE-A65F-E518E673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01104-FAF0-44D0-AE42-7D31EB78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F80D-F86A-4987-8CD1-A0D3EBD1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B6414-5D44-4267-8AA6-7CD3592D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C2777-DC7E-4075-9331-8BD3EB7D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8BEC7-557B-4C37-AC72-DB56B0F1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EFB6F-4ACD-4C7F-A889-EB01045F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4CABE-E647-43A3-AF4B-1FF84379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E2741-F0E3-4265-8949-DE655FDF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EFA5E-15DE-44D7-A3D7-5B30791F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91AA0-1567-4270-B403-C5DF832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B5554-17A3-42F3-9B16-DF27C3E7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94C7F-ADE5-4188-8CFE-1C282D88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7B98-7267-4BE5-9F90-71692242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58E98-3DB6-4EAD-8481-CCA4DF97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11E55-84D6-4A3A-B572-92BE0529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4A38E-00B4-4610-B8EE-A4F9C1A5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3F886-FED3-48D3-AC7D-8D8EF278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85DA3-B5A4-40D2-8121-68AAF08A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F356E-CCC6-4F1F-83A3-9C2D55BA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B55B9-182C-4F9C-A31D-DB113FBC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70C74-6805-41FD-929A-CE8B4EC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6CF50-8498-4174-AD42-6695D51B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A243E-C67D-4627-8DD9-3CE5AB7B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3C4-A291-4B12-8E09-92BF078D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6B922-90D2-4EE9-846B-4C01679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11ED7-3DD3-4297-9C28-204368DA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EE330-8E79-484F-9A8E-E0AB3F31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D1DC2-CAD4-4B84-A74B-A4ED0688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2E4E3-60B3-4D8B-ACC0-EE9DD2D7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AB0D1-7E24-4120-8285-6959A8D9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4554C-D3C5-4AB0-B93F-AB16D13C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47A79-B24E-4F20-95F8-BF9A6F82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FEBCB-3266-4F28-9B2F-EBD53A82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D9B44-7EB8-4F7B-977B-734DC2BD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164-86A9-48A9-AC8F-AB8C1AB1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D3AE-73BB-4CC4-B2F7-D2B9D793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CC46B-38DF-4783-8BDF-9B4AE44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57EA7-5D58-497B-9385-E60B392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0B32E-83EA-4454-977F-6AB8C1B7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C8ABB-9DD8-4048-A7FB-4D0244E9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669F2-7A1F-4ABF-8091-228281C3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C4B65-2A03-4147-A0CC-7BC0EF80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94F0D-8B6D-4192-BE60-F0D21673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8FF29-6384-4E48-9DCD-51B65562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85354-5C7F-4597-9756-D4959FD4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DFBAC-A8C0-4D90-8D0F-66621D1E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6799-0BD2-450D-8106-7A3DED4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6D0C2-2131-4D18-BBD3-5D318355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52E9E-B589-4550-9D7D-43D6F8A9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4A79E-2AF7-471E-B9DA-F88579EA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BC2D5-F243-4729-B753-7CD2328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28C52-D89D-49F5-A5C6-BA18C9E0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3AF1D-8661-415A-8409-4A35F662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7EACC-970F-4F2D-8427-30F34367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1FEC43-5B25-4D49-A59F-986812D2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6CE5B3-EB36-4F0C-AB00-33408A60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236E8-9983-403E-866C-1BFAF078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6572-3CF8-43B2-8EE0-4DACCCE1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8C68F0-9206-4512-ADA6-92DF689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C6EC4F-B20E-4ACF-A56F-F9482CE0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BFF18-1461-40F6-87C1-2438B9FC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7DDFDB-6F08-40FC-8DE7-288F66B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0CBA9-302F-4C00-8E80-63322906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3F09F-7C5A-405B-931A-2CC9A794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B6894F-D9A9-49B8-9336-23814B8A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7F78C-8141-4DFB-BBF9-4CD058B4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C8B4E-8F85-4293-966E-9135B901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1440-3C88-426B-ABBD-5A5F6424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5052-7B04-4E9E-8459-50954381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857F-1849-49A4-84D7-DCFA23F5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FEE9-8EF9-431B-9259-32353C71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D93E-7DF4-416D-979D-CF360ECD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5579-BC6B-4CFF-A8F5-045EDF4B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395D-8A28-4770-AFB2-047E765B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13B-B9F9-44AD-A5F5-9207ADE8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8028-D382-4425-8828-F0597757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5D1D-FE6F-4C79-9332-E52EEC9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42B1-0939-4DC5-AFAA-439A453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13F5-A9C7-4A51-A59D-697ED6C6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FEA4-1FDC-47BE-BDE6-78211A44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743B-DFDD-43D8-90E4-ECB6F8DB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1A47-EBA9-45C4-9915-558FA776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2076-7D31-43FA-B606-CDB069CF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0B28-1AD3-488C-9856-706BAD18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1925-AEFE-4B67-B3B7-6C07C9F0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89A-C08C-46FA-B972-7F017EE2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1FF7-4E0C-4A7F-BD97-57001497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BCFE-FA31-44AF-B13A-791B9A7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F486-6FDF-45C9-90DD-B529996C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6570-413D-4A6B-89C8-1492784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FF181-B9B1-471C-B00B-3F49D3CE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8689-B134-40AA-BF8D-BF0B65F7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88D8-3E5E-4F07-A42C-720A783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851B-D444-4AE4-AC94-80B0AFBC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2B32-7570-4DFC-8F5D-043B1ADB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6680E-08B3-4F04-9777-544278DB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999-DD43-4675-839D-6F2E8B01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AEB1A-62A1-4A7C-B31B-D3836F22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E596D-3CD6-4039-AA44-848325E9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B8CED-9885-46F8-9CCD-02BA8DBE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705EE-7B28-4EAD-8E16-00A6FA9D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9F322-189B-43F1-A6C7-9C2B2F0A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F8597-43A8-4A0D-BAFE-D3E0FC4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6A52-3D38-444D-9C45-4C25DF2B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6A27A-C73C-4BF8-AB2C-AB78D11F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BDA7-B35B-4F46-864F-E11BBC1C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2231-6CFE-4DAB-AE9A-6AF1F07E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D4D-5241-4A29-AF7A-8A2F0E5C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C7F52-C041-45D0-9F10-BD5E643F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9CAF-5299-4E18-A524-51A9956A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81562-254C-461C-B20E-37B6B780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D2C8B-2FB3-4303-8851-67ECE570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5531D-3EAC-4D11-9417-2831020F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161C-C378-4CCB-8F88-7655FE7F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07B93-A8F6-495A-932E-D75EAE6F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A33F7-E32F-414A-BF2D-4C3BD11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8DA50-79BF-47E4-BBB3-CEBB87E6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FA5E-1DDC-44D9-A8DA-624D220C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990-9FA7-4B17-AFF6-ACB73B5A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D1EA-51ED-4CDC-8859-05470B1C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6B91-F1F3-4A4A-8850-36035895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ED0E-2325-44D3-9EBC-17715AED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8D76D-F5AA-4F14-96FE-E679119A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CB7E8-4774-4C08-B130-CCAC4A00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E0A5A-39F9-4624-B208-11141982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B425B-DDFA-4F05-9452-A6FD812A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18088-8639-40C5-8217-D824724E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DF1C0-C486-480B-8DDE-09E5EDCD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82377-8451-4A15-B3EB-6A5BEC85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62D-B578-4341-8C7D-6EF6FEA2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62D0-4411-4041-A0B9-E5B1AA99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390BF-118C-419B-B65F-151F496D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FCCE-CC94-4533-AD69-C9B13599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E2699-1450-4F4F-A8C7-ED6C7EE7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C90B5-FF22-4497-80A9-A972FBA0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E94D-6FC6-4581-A0B9-7412FE2D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D4EC3-0BDF-4130-A3A5-DA89FFD5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2F227-9F1B-4F4F-ACAC-54661B8B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BE216-9A82-4965-89C9-DCCB50A3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7FFB9-8C02-4464-8F6D-1F0D4DA5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A5A-3F04-4AD7-985E-6613794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EF6BA-3FB6-4D6E-A322-F5D7B4D6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4E216-4CC6-44C6-9B20-5173CF3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6BA0A-90A8-47FE-B177-88A6A11C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A17EC-8518-4AE9-9133-4A35FCE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0A89B-C7FF-4260-B492-6920DF0B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985DA-A807-4ADA-B994-55854DD4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E1338-6415-4CCE-A91F-889CAE19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C785D-ED41-4869-ADA1-C874E56E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B90AA-7D8B-401D-BD4D-8AB7EB60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B9D91-D138-4672-B54E-FBFD3C96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0DCD-C265-4536-84D8-7BB18C1786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203E-FF25-4658-BE1E-5350B6CE6F0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E28-9E6F-48B2-AAE8-02A70ECCB7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31FA-85AC-4C99-9DED-DA927858C0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925C-C168-4E4D-BA32-C275C9FE06C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E6F8-63CE-4B0C-8948-32E8369837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EAE9-11CF-42BD-91EF-D0A06B26C5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3B65-B850-4C8F-B6B4-142A84264B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578-CFE9-4B6D-B017-8D53684AACE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BB5B-2691-40A2-919C-5DC0F06A29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5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0D80-3816-4973-B979-F7B49413D98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D2A4-81B2-4837-A5F1-8E79478BB75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0A4-2C3C-476B-BCE2-EE2B8B5851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0B65-75D2-49DF-916A-42ECFD7C73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552C-0F12-4793-A978-78C0EA21EE1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645A-FCE3-41A5-BAEA-85166B9DD6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1898-C123-476F-AB61-9FD7ECB53D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D1D7-A7E1-4FFA-BCAB-53F977F92F6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D57-F6FA-403B-8BC5-C2AEEF45C7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0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4000" y="1773000"/>
            <a:ext cx="792468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262626"/>
                </a:solidFill>
                <a:latin typeface="Arial"/>
              </a:rPr>
              <a:t>Мониторинг и оценка </a:t>
            </a:r>
            <a:br>
              <a:rPr sz="4800"/>
            </a:br>
            <a:r>
              <a:rPr b="0" lang="ru-RU" sz="4800" spc="-1" strike="noStrike">
                <a:solidFill>
                  <a:srgbClr val="262626"/>
                </a:solidFill>
                <a:latin typeface="Arial"/>
              </a:rPr>
              <a:t>проектов</a:t>
            </a:r>
            <a:r>
              <a:rPr b="0" lang="en-US" sz="4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262626"/>
                </a:solidFill>
                <a:latin typeface="Arial"/>
              </a:rPr>
              <a:t>и программ</a:t>
            </a:r>
            <a:br>
              <a:rPr sz="4800"/>
            </a:br>
            <a:br>
              <a:rPr sz="1400"/>
            </a:b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Номер слайда 5"/>
          <p:cNvSpPr/>
          <p:nvPr/>
        </p:nvSpPr>
        <p:spPr>
          <a:xfrm>
            <a:off x="42372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CA1D-7F1B-47AE-BFBD-163E3D6588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394920" y="1341360"/>
            <a:ext cx="8280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000" spc="-1" strike="noStrike">
                <a:solidFill>
                  <a:srgbClr val="404040"/>
                </a:solidFill>
                <a:latin typeface="Arial"/>
              </a:rPr>
              <a:t>Мониторинг</a:t>
            </a:r>
            <a:r>
              <a:rPr b="0" i="1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 программы</a:t>
            </a:r>
            <a:r>
              <a:rPr b="0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 – это вид оценки, который заключается в </a:t>
            </a:r>
            <a:r>
              <a:rPr b="0" lang="ru-RU" sz="3000" spc="-1" strike="noStrike">
                <a:solidFill>
                  <a:srgbClr val="404040"/>
                </a:solidFill>
                <a:latin typeface="Arial"/>
              </a:rPr>
              <a:t> отслеживании хода программы и сравнении фактической ситуации с планом.</a:t>
            </a:r>
            <a:r>
              <a:rPr b="0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0FC4-9E2F-45CF-B8A5-A31C2BFDE0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8" name="Object 3"/>
          <p:cNvGraphicFramePr/>
          <p:nvPr/>
        </p:nvGraphicFramePr>
        <p:xfrm>
          <a:off x="6443640" y="4292640"/>
          <a:ext cx="17398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4292640"/>
                    <a:ext cx="1739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8B7D-1A38-4D2F-A0A3-C7092F0D80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2"/>
          <p:cNvSpPr/>
          <p:nvPr/>
        </p:nvSpPr>
        <p:spPr>
          <a:xfrm>
            <a:off x="1371600" y="1828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МОНИ</a:t>
            </a:r>
            <a:r>
              <a:rPr b="1" lang="en-US" sz="2800" spc="-1" strike="noStrike">
                <a:solidFill>
                  <a:srgbClr val="766f54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ОРИН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3"/>
          <p:cNvSpPr/>
          <p:nvPr/>
        </p:nvSpPr>
        <p:spPr>
          <a:xfrm>
            <a:off x="1447920" y="2590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дут д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4"/>
          <p:cNvSpPr/>
          <p:nvPr/>
        </p:nvSpPr>
        <p:spPr>
          <a:xfrm>
            <a:off x="4806000" y="2579760"/>
            <a:ext cx="3722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 и что ?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м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4" name="Object 5"/>
          <p:cNvGraphicFramePr/>
          <p:nvPr/>
        </p:nvGraphicFramePr>
        <p:xfrm>
          <a:off x="1523880" y="3505320"/>
          <a:ext cx="173988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17398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6" name="Object 6"/>
          <p:cNvGraphicFramePr/>
          <p:nvPr/>
        </p:nvGraphicFramePr>
        <p:xfrm>
          <a:off x="6095880" y="3276720"/>
          <a:ext cx="16542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276720"/>
                    <a:ext cx="1654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8" name="Text Box 7"/>
          <p:cNvSpPr/>
          <p:nvPr/>
        </p:nvSpPr>
        <p:spPr>
          <a:xfrm>
            <a:off x="4800600" y="1828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ОЦЕН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572000" y="838080"/>
            <a:ext cx="0" cy="4953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5494-5AE9-42EB-9C0A-60F25E19A5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0798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Определен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3814920" cy="446436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ahoma"/>
              </a:rPr>
              <a:t>Оценк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ahoma"/>
              </a:rPr>
              <a:t>Измерение результатов и сопоставление их с задачами проекта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ahoma"/>
              </a:rPr>
              <a:t>Ценность, польза идея, замысел, проекта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573520" y="1196640"/>
            <a:ext cx="3570120" cy="453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ahoma"/>
              </a:rPr>
              <a:t>Мониторинг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ahoma"/>
              </a:rPr>
              <a:t>Постоянное </a:t>
            </a:r>
            <a:r>
              <a:rPr b="1" lang="ru-RU" sz="2500" spc="-1" strike="noStrike">
                <a:solidFill>
                  <a:srgbClr val="404040"/>
                </a:solidFill>
                <a:latin typeface="Tahoma"/>
              </a:rPr>
              <a:t>наблюдение</a:t>
            </a:r>
            <a:r>
              <a:rPr b="0" lang="ru-RU" sz="2500" spc="-1" strike="noStrike">
                <a:solidFill>
                  <a:srgbClr val="404040"/>
                </a:solidFill>
                <a:latin typeface="Tahoma"/>
              </a:rPr>
              <a:t> за ходом проекта (календарный план, результаты, стоимость и т.д.)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4" name="Text Box 5"/>
          <p:cNvSpPr/>
          <p:nvPr/>
        </p:nvSpPr>
        <p:spPr>
          <a:xfrm>
            <a:off x="468360" y="5805360"/>
            <a:ext cx="8245440" cy="505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82a3b"/>
                </a:solidFill>
                <a:latin typeface="Tahoma"/>
                <a:ea typeface="Arial"/>
              </a:rPr>
              <a:t>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7F91-59E9-4D89-BE8D-50EEACC398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439092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Определен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105440" cy="5238720"/>
          </a:xfrm>
          <a:prstGeom prst="rect">
            <a:avLst/>
          </a:prstGeom>
          <a:solidFill>
            <a:srgbClr val="cc33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 u="sng">
                <a:solidFill>
                  <a:srgbClr val="404040"/>
                </a:solidFill>
                <a:uFillTx/>
                <a:latin typeface="Tahoma"/>
              </a:rPr>
              <a:t>Оценка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Правиль</a:t>
            </a:r>
            <a:r>
              <a:rPr b="1" i="1" lang="ru-RU" sz="2300" spc="-1" strike="noStrike">
                <a:solidFill>
                  <a:srgbClr val="ffffff"/>
                </a:solidFill>
                <a:latin typeface="Tahoma"/>
              </a:rPr>
              <a:t>НЫЙ </a:t>
            </a: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 проект?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На ключевых этапах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Анализ идеологии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  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Информация (результат оценки) - для принятия </a:t>
            </a: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стратегических решений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933440" y="1213920"/>
            <a:ext cx="4210200" cy="52563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 u="sng">
                <a:solidFill>
                  <a:srgbClr val="404040"/>
                </a:solidFill>
                <a:uFillTx/>
                <a:latin typeface="Tahoma"/>
              </a:rPr>
              <a:t>Мониторинг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Правиль</a:t>
            </a:r>
            <a:r>
              <a:rPr b="1" i="1" lang="ru-RU" sz="2300" spc="-1" strike="noStrike">
                <a:solidFill>
                  <a:srgbClr val="ffffff"/>
                </a:solidFill>
                <a:latin typeface="Tahoma"/>
              </a:rPr>
              <a:t>НО</a:t>
            </a:r>
            <a:r>
              <a:rPr b="0" i="1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300" spc="-1" strike="noStrike">
                <a:solidFill>
                  <a:srgbClr val="404040"/>
                </a:solidFill>
                <a:latin typeface="Tahoma"/>
              </a:rPr>
              <a:t> реализуется?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Непрерывно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Идеология не меняетс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Факты сравниваются с планами 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Информация (результат мониторинга) - для </a:t>
            </a: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оперативных решений </a:t>
            </a: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по проекту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E1D2-2B2E-44C7-894A-B707C38EF8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960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ВАЖНО!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2158560" y="200016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Мониторинг/оценка </a:t>
            </a:r>
            <a:r>
              <a:rPr b="1" lang="ru-RU" sz="3400" spc="-1" strike="noStrike">
                <a:solidFill>
                  <a:srgbClr val="57286a"/>
                </a:solidFill>
                <a:latin typeface="Tahoma"/>
              </a:rPr>
              <a:t>зависят от</a:t>
            </a: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: 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  </a:t>
            </a: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содержания деятельности, 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  </a:t>
            </a: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потребностей руководства,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  </a:t>
            </a:r>
            <a:r>
              <a:rPr b="0" lang="ru-RU" sz="3400" spc="-1" strike="noStrike">
                <a:solidFill>
                  <a:srgbClr val="57286a"/>
                </a:solidFill>
                <a:latin typeface="Tahoma"/>
              </a:rPr>
              <a:t>модели управления проектом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32" name="Picture 5" descr="j0320116"/>
          <p:cNvPicPr/>
          <p:nvPr/>
        </p:nvPicPr>
        <p:blipFill>
          <a:blip r:embed="rId1"/>
          <a:stretch/>
        </p:blipFill>
        <p:spPr>
          <a:xfrm>
            <a:off x="6407280" y="0"/>
            <a:ext cx="273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Arial"/>
              </a:rPr>
              <a:t>Как узнать, достигнут ли запланированный результат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4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CF79-2E5E-4FFD-8C7E-53F5F5D596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5" name="Object 2"/>
          <p:cNvGraphicFramePr/>
          <p:nvPr/>
        </p:nvGraphicFramePr>
        <p:xfrm>
          <a:off x="1066680" y="2895480"/>
          <a:ext cx="17686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17686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7" name="Line 4"/>
          <p:cNvSpPr/>
          <p:nvPr/>
        </p:nvSpPr>
        <p:spPr>
          <a:xfrm>
            <a:off x="2438280" y="4343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5"/>
          <p:cNvSpPr/>
          <p:nvPr/>
        </p:nvSpPr>
        <p:spPr>
          <a:xfrm>
            <a:off x="1447920" y="4343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6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7"/>
          <p:cNvSpPr/>
          <p:nvPr/>
        </p:nvSpPr>
        <p:spPr>
          <a:xfrm>
            <a:off x="190512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AutoShape 8"/>
          <p:cNvSpPr/>
          <p:nvPr/>
        </p:nvSpPr>
        <p:spPr>
          <a:xfrm>
            <a:off x="533520" y="2362320"/>
            <a:ext cx="685800" cy="533160"/>
          </a:xfrm>
          <a:prstGeom prst="wedgeEllipseCallout">
            <a:avLst>
              <a:gd name="adj1" fmla="val 120833"/>
              <a:gd name="adj2" fmla="val 197916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AutoShape 9"/>
          <p:cNvSpPr/>
          <p:nvPr/>
        </p:nvSpPr>
        <p:spPr>
          <a:xfrm>
            <a:off x="2362320" y="1981080"/>
            <a:ext cx="609480" cy="457200"/>
          </a:xfrm>
          <a:prstGeom prst="wedgeEllipseCallout">
            <a:avLst>
              <a:gd name="adj1" fmla="val -44532"/>
              <a:gd name="adj2" fmla="val 230902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10"/>
          <p:cNvSpPr/>
          <p:nvPr/>
        </p:nvSpPr>
        <p:spPr>
          <a:xfrm>
            <a:off x="457200" y="3352680"/>
            <a:ext cx="609480" cy="609840"/>
          </a:xfrm>
          <a:prstGeom prst="wedgeEllipseCallout">
            <a:avLst>
              <a:gd name="adj1" fmla="val 142189"/>
              <a:gd name="adj2" fmla="val 102083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AutoShape 11"/>
          <p:cNvSpPr/>
          <p:nvPr/>
        </p:nvSpPr>
        <p:spPr>
          <a:xfrm>
            <a:off x="1295280" y="1981080"/>
            <a:ext cx="609840" cy="457200"/>
          </a:xfrm>
          <a:prstGeom prst="wedgeEllipseCallout">
            <a:avLst>
              <a:gd name="adj1" fmla="val 53125"/>
              <a:gd name="adj2" fmla="val 229861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12"/>
          <p:cNvSpPr/>
          <p:nvPr/>
        </p:nvSpPr>
        <p:spPr>
          <a:xfrm>
            <a:off x="4038480" y="2286000"/>
            <a:ext cx="461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необходимо указ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яемые характерис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фак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и совпа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апланирован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результат достиг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6" name="AutoShape 13"/>
          <p:cNvCxnSpPr/>
          <p:nvPr/>
        </p:nvCxnSpPr>
        <p:spPr>
          <a:xfrm>
            <a:off x="3123720" y="2895120"/>
            <a:ext cx="2520" cy="16009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447" name="AutoShape 14"/>
          <p:cNvCxnSpPr/>
          <p:nvPr/>
        </p:nvCxnSpPr>
        <p:spPr>
          <a:xfrm>
            <a:off x="1447560" y="5105160"/>
            <a:ext cx="9910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448" name="Text Box 15"/>
          <p:cNvSpPr/>
          <p:nvPr/>
        </p:nvSpPr>
        <p:spPr>
          <a:xfrm>
            <a:off x="181476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16"/>
          <p:cNvSpPr/>
          <p:nvPr/>
        </p:nvSpPr>
        <p:spPr>
          <a:xfrm>
            <a:off x="2745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02AE-4A25-406B-9C86-6797C39688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Индикатор – показатель, который служит средством измерения достижений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452" name="Group 2"/>
          <p:cNvGrpSpPr/>
          <p:nvPr/>
        </p:nvGrpSpPr>
        <p:grpSpPr>
          <a:xfrm>
            <a:off x="2396880" y="3056400"/>
            <a:ext cx="2155680" cy="1911960"/>
            <a:chOff x="2396880" y="3056400"/>
            <a:chExt cx="2155680" cy="1911960"/>
          </a:xfrm>
        </p:grpSpPr>
        <p:sp>
          <p:nvSpPr>
            <p:cNvPr id="1453" name="Rectangle 3"/>
            <p:cNvSpPr/>
            <p:nvPr/>
          </p:nvSpPr>
          <p:spPr>
            <a:xfrm>
              <a:off x="2590920" y="4508640"/>
              <a:ext cx="182880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гр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"/>
            <p:cNvSpPr/>
            <p:nvPr/>
          </p:nvSpPr>
          <p:spPr>
            <a:xfrm>
              <a:off x="2396880" y="3056400"/>
              <a:ext cx="2155680" cy="459720"/>
            </a:xfrm>
            <a:prstGeom prst="rect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а закип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5"/>
            <p:cNvSpPr/>
            <p:nvPr/>
          </p:nvSpPr>
          <p:spPr>
            <a:xfrm flipV="1">
              <a:off x="3505320" y="3504960"/>
              <a:ext cx="0" cy="99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Text Box 6"/>
          <p:cNvSpPr/>
          <p:nvPr/>
        </p:nvSpPr>
        <p:spPr>
          <a:xfrm>
            <a:off x="1273680" y="5108400"/>
            <a:ext cx="53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грев необходим для закипани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7"/>
          <p:cNvSpPr/>
          <p:nvPr/>
        </p:nvSpPr>
        <p:spPr>
          <a:xfrm>
            <a:off x="4727520" y="3016080"/>
            <a:ext cx="41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пература в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выше точки кип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8"/>
          <p:cNvSpPr/>
          <p:nvPr/>
        </p:nvSpPr>
        <p:spPr>
          <a:xfrm>
            <a:off x="4424040" y="2311560"/>
            <a:ext cx="43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Объективный по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9"/>
          <p:cNvSpPr/>
          <p:nvPr/>
        </p:nvSpPr>
        <p:spPr>
          <a:xfrm>
            <a:off x="1374480" y="4448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10"/>
          <p:cNvSpPr/>
          <p:nvPr/>
        </p:nvSpPr>
        <p:spPr>
          <a:xfrm>
            <a:off x="1558800" y="2986200"/>
            <a:ext cx="7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Arial"/>
              </a:rPr>
              <a:t>Мониторинг программы: </a:t>
            </a:r>
            <a:br>
              <a:rPr sz="3600"/>
            </a:b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что нужно отслеживать?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971640" y="1980720"/>
            <a:ext cx="748656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137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спользование ресурсов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оответствие израсходованных ресурсов плану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137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Процесс выполнения программы (соответствие содержания и сроков мероприятий графику выполнения работ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;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облюдение методов и процедур)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137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Результаты (в какой мере удается решать поставленные в начале проекта задачи)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3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702A-C762-4058-8EA0-17F51739F9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F009-A7D8-4814-9322-2210CACECD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2"/>
          <p:cNvSpPr/>
          <p:nvPr/>
        </p:nvSpPr>
        <p:spPr>
          <a:xfrm>
            <a:off x="684360" y="7650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Построение системы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3"/>
          <p:cNvSpPr/>
          <p:nvPr/>
        </p:nvSpPr>
        <p:spPr>
          <a:xfrm>
            <a:off x="990720" y="2514600"/>
            <a:ext cx="1752480" cy="14479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4"/>
          <p:cNvSpPr/>
          <p:nvPr/>
        </p:nvSpPr>
        <p:spPr>
          <a:xfrm>
            <a:off x="6477120" y="2438280"/>
            <a:ext cx="2133360" cy="14479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5"/>
          <p:cNvSpPr/>
          <p:nvPr/>
        </p:nvSpPr>
        <p:spPr>
          <a:xfrm>
            <a:off x="4114800" y="2286000"/>
            <a:ext cx="2195640" cy="1828800"/>
          </a:xfrm>
          <a:prstGeom prst="rightArrow">
            <a:avLst>
              <a:gd name="adj1" fmla="val 50000"/>
              <a:gd name="adj2" fmla="val 30015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6"/>
          <p:cNvSpPr/>
          <p:nvPr/>
        </p:nvSpPr>
        <p:spPr>
          <a:xfrm>
            <a:off x="2895480" y="2743200"/>
            <a:ext cx="1067040" cy="91440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7"/>
          <p:cNvSpPr/>
          <p:nvPr/>
        </p:nvSpPr>
        <p:spPr>
          <a:xfrm>
            <a:off x="1600200" y="1600200"/>
            <a:ext cx="198108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8"/>
          <p:cNvSpPr/>
          <p:nvPr/>
        </p:nvSpPr>
        <p:spPr>
          <a:xfrm>
            <a:off x="3809880" y="1600200"/>
            <a:ext cx="129564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9"/>
          <p:cNvSpPr/>
          <p:nvPr/>
        </p:nvSpPr>
        <p:spPr>
          <a:xfrm>
            <a:off x="3809880" y="4191120"/>
            <a:ext cx="167652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10"/>
          <p:cNvSpPr/>
          <p:nvPr/>
        </p:nvSpPr>
        <p:spPr>
          <a:xfrm>
            <a:off x="1981080" y="4191120"/>
            <a:ext cx="160020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1"/>
          <p:cNvSpPr/>
          <p:nvPr/>
        </p:nvSpPr>
        <p:spPr>
          <a:xfrm>
            <a:off x="3048120" y="2209680"/>
            <a:ext cx="1295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12"/>
          <p:cNvSpPr/>
          <p:nvPr/>
        </p:nvSpPr>
        <p:spPr>
          <a:xfrm>
            <a:off x="4419720" y="2209680"/>
            <a:ext cx="10666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13"/>
          <p:cNvSpPr/>
          <p:nvPr/>
        </p:nvSpPr>
        <p:spPr>
          <a:xfrm flipV="1">
            <a:off x="3124080" y="3657600"/>
            <a:ext cx="12193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14"/>
          <p:cNvSpPr/>
          <p:nvPr/>
        </p:nvSpPr>
        <p:spPr>
          <a:xfrm flipV="1">
            <a:off x="4267080" y="3657600"/>
            <a:ext cx="12193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AutoShape 15"/>
          <p:cNvSpPr/>
          <p:nvPr/>
        </p:nvSpPr>
        <p:spPr>
          <a:xfrm rot="10800000">
            <a:off x="4723920" y="243828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AutoShape 16"/>
          <p:cNvSpPr/>
          <p:nvPr/>
        </p:nvSpPr>
        <p:spPr>
          <a:xfrm rot="10800000">
            <a:off x="4800240" y="129528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AutoShape 17"/>
          <p:cNvSpPr/>
          <p:nvPr/>
        </p:nvSpPr>
        <p:spPr>
          <a:xfrm rot="10800000">
            <a:off x="2819160" y="388620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AutoShape 18"/>
          <p:cNvSpPr/>
          <p:nvPr/>
        </p:nvSpPr>
        <p:spPr>
          <a:xfrm rot="10800000">
            <a:off x="5028840" y="388620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AutoShape 19"/>
          <p:cNvSpPr/>
          <p:nvPr/>
        </p:nvSpPr>
        <p:spPr>
          <a:xfrm rot="10800000">
            <a:off x="8229240" y="220968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AutoShape 20"/>
          <p:cNvSpPr/>
          <p:nvPr/>
        </p:nvSpPr>
        <p:spPr>
          <a:xfrm rot="10800000">
            <a:off x="3047760" y="129528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21"/>
          <p:cNvSpPr/>
          <p:nvPr/>
        </p:nvSpPr>
        <p:spPr>
          <a:xfrm rot="10800000">
            <a:off x="3428640" y="2514600"/>
            <a:ext cx="228600" cy="457200"/>
          </a:xfrm>
          <a:prstGeom prst="triangle">
            <a:avLst>
              <a:gd name="adj" fmla="val 51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22"/>
          <p:cNvSpPr/>
          <p:nvPr/>
        </p:nvSpPr>
        <p:spPr>
          <a:xfrm>
            <a:off x="5181480" y="4114800"/>
            <a:ext cx="1828800" cy="1066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23"/>
          <p:cNvSpPr/>
          <p:nvPr/>
        </p:nvSpPr>
        <p:spPr>
          <a:xfrm>
            <a:off x="2971800" y="4114800"/>
            <a:ext cx="3962520" cy="1219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24"/>
          <p:cNvSpPr/>
          <p:nvPr/>
        </p:nvSpPr>
        <p:spPr>
          <a:xfrm>
            <a:off x="4876920" y="2590920"/>
            <a:ext cx="2361960" cy="2286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25"/>
          <p:cNvSpPr/>
          <p:nvPr/>
        </p:nvSpPr>
        <p:spPr>
          <a:xfrm>
            <a:off x="3581280" y="2666880"/>
            <a:ext cx="350532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26"/>
          <p:cNvSpPr/>
          <p:nvPr/>
        </p:nvSpPr>
        <p:spPr>
          <a:xfrm>
            <a:off x="3200400" y="1447920"/>
            <a:ext cx="3962520" cy="3504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27"/>
          <p:cNvSpPr/>
          <p:nvPr/>
        </p:nvSpPr>
        <p:spPr>
          <a:xfrm>
            <a:off x="4952880" y="1447920"/>
            <a:ext cx="2362320" cy="3352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28"/>
          <p:cNvSpPr/>
          <p:nvPr/>
        </p:nvSpPr>
        <p:spPr>
          <a:xfrm flipV="1">
            <a:off x="7543800" y="2361960"/>
            <a:ext cx="762120" cy="2361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29" descr="BS00580_"/>
          <p:cNvPicPr/>
          <p:nvPr/>
        </p:nvPicPr>
        <p:blipFill>
          <a:blip r:embed="rId1"/>
          <a:stretch/>
        </p:blipFill>
        <p:spPr>
          <a:xfrm>
            <a:off x="7086600" y="4876920"/>
            <a:ext cx="1371600" cy="1155600"/>
          </a:xfrm>
          <a:prstGeom prst="rect">
            <a:avLst/>
          </a:prstGeom>
          <a:ln w="0">
            <a:noFill/>
          </a:ln>
        </p:spPr>
      </p:pic>
      <p:sp>
        <p:nvSpPr>
          <p:cNvPr id="1493" name="AutoShape 30"/>
          <p:cNvSpPr/>
          <p:nvPr/>
        </p:nvSpPr>
        <p:spPr>
          <a:xfrm flipH="1" rot="5400000">
            <a:off x="6080760" y="5043240"/>
            <a:ext cx="409680" cy="1295640"/>
          </a:xfrm>
          <a:prstGeom prst="downArrow">
            <a:avLst>
              <a:gd name="adj1" fmla="val 50000"/>
              <a:gd name="adj2" fmla="val 790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4" name="Object 31"/>
          <p:cNvGraphicFramePr/>
          <p:nvPr/>
        </p:nvGraphicFramePr>
        <p:xfrm>
          <a:off x="3962520" y="4876920"/>
          <a:ext cx="1828800" cy="17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5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4876920"/>
                    <a:ext cx="182880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Rectangle 32"/>
          <p:cNvSpPr/>
          <p:nvPr/>
        </p:nvSpPr>
        <p:spPr>
          <a:xfrm>
            <a:off x="250920" y="260280"/>
            <a:ext cx="3911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66f54"/>
                </a:solidFill>
                <a:latin typeface="Arial"/>
              </a:rPr>
              <a:t>Когда нужно создавать систему мониторин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AutoShape 33"/>
          <p:cNvSpPr/>
          <p:nvPr/>
        </p:nvSpPr>
        <p:spPr>
          <a:xfrm rot="16200000">
            <a:off x="4349880" y="50400"/>
            <a:ext cx="485640" cy="762120"/>
          </a:xfrm>
          <a:prstGeom prst="downArrow">
            <a:avLst>
              <a:gd name="adj1" fmla="val 50000"/>
              <a:gd name="adj2" fmla="val 392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34"/>
          <p:cNvSpPr/>
          <p:nvPr/>
        </p:nvSpPr>
        <p:spPr>
          <a:xfrm>
            <a:off x="5580000" y="115920"/>
            <a:ext cx="30481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66f54"/>
                </a:solidFill>
                <a:latin typeface="Arial"/>
              </a:rPr>
              <a:t>На стадии разработк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Arial"/>
              </a:rPr>
              <a:t>Мониторинг программы: </a:t>
            </a:r>
            <a:br>
              <a:rPr sz="2900"/>
            </a:br>
            <a:r>
              <a:rPr b="1" lang="ru-RU" sz="2500" spc="-1" strike="noStrike">
                <a:solidFill>
                  <a:srgbClr val="262626"/>
                </a:solidFill>
                <a:latin typeface="Arial"/>
              </a:rPr>
              <a:t>что нужно для успешного мониторинга?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1447560" y="1484280"/>
            <a:ext cx="7467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пределить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измеряемые показатели/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ндикаторы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программ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Установить источники информации для проведения мониторинг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Выбрать методы сбора информации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Определить периодичность сбора/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лучения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информаци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планировать, каким образом будет использоваться получаемая информац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Учесть в бюджете программы необходимые расход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1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D5B-B8FC-4CB7-8A57-C7BAFDDED3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2" name="Picture 4" descr="j0238283"/>
          <p:cNvPicPr/>
          <p:nvPr/>
        </p:nvPicPr>
        <p:blipFill>
          <a:blip r:embed="rId1"/>
          <a:stretch/>
        </p:blipFill>
        <p:spPr>
          <a:xfrm>
            <a:off x="0" y="4514760"/>
            <a:ext cx="1784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635-AE1E-4D0D-8CCF-DA7E3EB6E1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2"/>
          <p:cNvSpPr/>
          <p:nvPr/>
        </p:nvSpPr>
        <p:spPr>
          <a:xfrm>
            <a:off x="990720" y="2514600"/>
            <a:ext cx="1752480" cy="14479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3"/>
          <p:cNvSpPr/>
          <p:nvPr/>
        </p:nvSpPr>
        <p:spPr>
          <a:xfrm>
            <a:off x="6477120" y="2438280"/>
            <a:ext cx="2133360" cy="14479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AutoShape 4"/>
          <p:cNvSpPr/>
          <p:nvPr/>
        </p:nvSpPr>
        <p:spPr>
          <a:xfrm>
            <a:off x="4114800" y="2286000"/>
            <a:ext cx="2195640" cy="1828800"/>
          </a:xfrm>
          <a:prstGeom prst="rightArrow">
            <a:avLst>
              <a:gd name="adj1" fmla="val 50000"/>
              <a:gd name="adj2" fmla="val 30015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5"/>
          <p:cNvSpPr/>
          <p:nvPr/>
        </p:nvSpPr>
        <p:spPr>
          <a:xfrm>
            <a:off x="2895480" y="2743200"/>
            <a:ext cx="1067040" cy="91440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1600200" y="1371600"/>
            <a:ext cx="198108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3809880" y="1371600"/>
            <a:ext cx="1295640" cy="60948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8"/>
          <p:cNvSpPr/>
          <p:nvPr/>
        </p:nvSpPr>
        <p:spPr>
          <a:xfrm>
            <a:off x="3809880" y="4267080"/>
            <a:ext cx="1676520" cy="6098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9"/>
          <p:cNvSpPr/>
          <p:nvPr/>
        </p:nvSpPr>
        <p:spPr>
          <a:xfrm>
            <a:off x="1981080" y="4267080"/>
            <a:ext cx="1600200" cy="6098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0"/>
          <p:cNvSpPr/>
          <p:nvPr/>
        </p:nvSpPr>
        <p:spPr>
          <a:xfrm>
            <a:off x="2895480" y="5181480"/>
            <a:ext cx="22860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11"/>
          <p:cNvSpPr/>
          <p:nvPr/>
        </p:nvSpPr>
        <p:spPr>
          <a:xfrm>
            <a:off x="3124080" y="1981080"/>
            <a:ext cx="11430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2"/>
          <p:cNvSpPr/>
          <p:nvPr/>
        </p:nvSpPr>
        <p:spPr>
          <a:xfrm>
            <a:off x="4343400" y="1981080"/>
            <a:ext cx="11430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13"/>
          <p:cNvSpPr/>
          <p:nvPr/>
        </p:nvSpPr>
        <p:spPr>
          <a:xfrm flipV="1">
            <a:off x="3200400" y="36572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14"/>
          <p:cNvSpPr/>
          <p:nvPr/>
        </p:nvSpPr>
        <p:spPr>
          <a:xfrm flipV="1">
            <a:off x="4343400" y="36572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5" name="AutoShape 15"/>
          <p:cNvCxnSpPr>
            <a:stCxn id="1323" idx="2"/>
            <a:endCxn id="1330" idx="3"/>
          </p:cNvCxnSpPr>
          <p:nvPr/>
        </p:nvCxnSpPr>
        <p:spPr>
          <a:xfrm rot="5400000">
            <a:off x="5475960" y="3609720"/>
            <a:ext cx="1791360" cy="23439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6" name="AutoShape 16"/>
          <p:cNvCxnSpPr>
            <a:stCxn id="1330" idx="1"/>
            <a:endCxn id="1322" idx="2"/>
          </p:cNvCxnSpPr>
          <p:nvPr/>
        </p:nvCxnSpPr>
        <p:spPr>
          <a:xfrm rot="10800000">
            <a:off x="1866240" y="3961800"/>
            <a:ext cx="1010160" cy="17150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7" name="AutoShape 17"/>
          <p:cNvCxnSpPr/>
          <p:nvPr/>
        </p:nvCxnSpPr>
        <p:spPr>
          <a:xfrm rot="5400000">
            <a:off x="4456800" y="4381560"/>
            <a:ext cx="1905840" cy="457920"/>
          </a:xfrm>
          <a:prstGeom prst="bentConnector3">
            <a:avLst>
              <a:gd name="adj1" fmla="val 99395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38" name="Text Box 18"/>
          <p:cNvSpPr/>
          <p:nvPr/>
        </p:nvSpPr>
        <p:spPr>
          <a:xfrm>
            <a:off x="2133720" y="4572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6f54"/>
                </a:solidFill>
                <a:latin typeface="Arial"/>
              </a:rPr>
              <a:t>МОДЕЛЬ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Arial"/>
              </a:rPr>
              <a:t>Как разработать индикаторы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Ответить на вопрос «По каким признакам мы узнаем о том, что результаты программы достигнуты?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Индикаторы могут быть как количественными, так и качественны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Разрабатывать индикаторы должны авторы программы (эксперты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Индикаторы формируются на этапе разработки, но могут корректироваться в ходе программ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72960" indent="504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Индикатор, независимо от того, количественный он или качественный – всегда число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5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500E-C858-404A-8E39-FC4338F19B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Индикатор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олжны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ыть показательными в отношении качественных и количественных характеристик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КОЛИЧЕСТВ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-- скольк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КАЧЕСТВ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------- насколько хорош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22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РEМ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------------- когда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8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F1F9-E161-4186-A64B-EAC0A7279C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1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4A08-E52F-46EF-8EC3-7131EC928B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ипы индикаторов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-360" y="1571400"/>
            <a:ext cx="59007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ahoma"/>
                <a:ea typeface="Tahoma"/>
              </a:rPr>
              <a:t>Какие характеристики проекта измеряются: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количественны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качественны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ahoma"/>
                <a:ea typeface="Tahoma"/>
              </a:rPr>
              <a:t>Что измеряют: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вход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процесс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непосредственный результат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общий результат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ahoma"/>
                <a:ea typeface="Tahoma"/>
              </a:rPr>
              <a:t>влияни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12" name="Picture 4" descr="j0303472"/>
          <p:cNvPicPr/>
          <p:nvPr/>
        </p:nvPicPr>
        <p:blipFill>
          <a:blip r:embed="rId1"/>
          <a:stretch/>
        </p:blipFill>
        <p:spPr>
          <a:xfrm>
            <a:off x="6858000" y="1357200"/>
            <a:ext cx="1762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8EDE-B5D2-437B-AFA6-F84BEF30D0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7956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-352440">
              <a:lnSpc>
                <a:spcPct val="115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ресурса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Объем ресурсов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-3524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выхода </a:t>
            </a:r>
            <a:r>
              <a:rPr b="0" lang="ru-RU" sz="2300" spc="-1" strike="noStrike">
                <a:solidFill>
                  <a:srgbClr val="404040"/>
                </a:solidFill>
                <a:latin typeface="Tahoma"/>
              </a:rPr>
              <a:t>(продукты)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Количество  услуг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-3524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результатов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Выгоды  для благополучателей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-3524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эффективности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Соотношение результатов и ресурсов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-3524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ahoma"/>
              </a:rPr>
              <a:t>Индикаторы  воздействи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524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990099"/>
                </a:solidFill>
                <a:latin typeface="Tahoma"/>
              </a:rPr>
              <a:t>Влияние на проблему проекта.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иды индикаторов мониторинг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516" name="Picture 5" descr=""/>
          <p:cNvPicPr/>
          <p:nvPr/>
        </p:nvPicPr>
        <p:blipFill>
          <a:blip r:embed="rId1"/>
          <a:stretch/>
        </p:blipFill>
        <p:spPr>
          <a:xfrm>
            <a:off x="6372360" y="765000"/>
            <a:ext cx="2771640" cy="223236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4" descr="j0283494"/>
          <p:cNvPicPr/>
          <p:nvPr/>
        </p:nvPicPr>
        <p:blipFill>
          <a:blip r:embed="rId2"/>
          <a:stretch/>
        </p:blipFill>
        <p:spPr>
          <a:xfrm>
            <a:off x="0" y="4286160"/>
            <a:ext cx="158760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55CA-0AD9-4C82-8368-0A14B9C780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Что такое «хороший индикатор»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?</a:t>
            </a:r>
            <a:br>
              <a:rPr sz="3600"/>
            </a:br>
            <a:r>
              <a:rPr b="0" lang="en-US" sz="2200" spc="-1" strike="noStrike">
                <a:solidFill>
                  <a:srgbClr val="262626"/>
                </a:solidFill>
                <a:latin typeface="Century Gothic"/>
              </a:rPr>
              <a:t>(“10 steps”, page 68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0" y="1413000"/>
          <a:ext cx="8229600" cy="508932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ный /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ый и определ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енный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ся к важным характеристикам объек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лагает разумные затр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еква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qu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ет информацию, соответствующую тому, что он измеря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яем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кает независимую провер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пособы проверк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следний шаг для того, чтобы избежать разногласий по поводу достижений на момент окончания проекта состоит в том, чтобы установить 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СПОСОБЫ ПРОВЕРК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ТКУДА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мы возьмем информацию, необходимую для установления выбранных показателей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КАК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мы будем собирать эту информацию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3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8D64-8C05-4DD1-AF22-BE868BC98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0" dur="500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5" dur="500"/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5EDF-7BBC-446B-B505-30D262B645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08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АЛГОРИТМ МОНИТОРИНГА ПРОЕКТА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526" name="Содержимое 3" descr=""/>
          <p:cNvPicPr/>
          <p:nvPr/>
        </p:nvPicPr>
        <p:blipFill>
          <a:blip r:embed="rId1"/>
          <a:stretch/>
        </p:blipFill>
        <p:spPr>
          <a:xfrm>
            <a:off x="-6480" y="426960"/>
            <a:ext cx="91630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FB39-6AAF-47FE-964C-FFF5B1995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граничения системы мониторинг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3271680" y="1214280"/>
            <a:ext cx="58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ahoma"/>
                <a:ea typeface="Tahoma"/>
              </a:rPr>
              <a:t>Измеряет только то, что мы запланировали заране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ahoma"/>
                <a:ea typeface="Tahoma"/>
              </a:rPr>
              <a:t>Не измеряет то, что мы не запланировали заране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ahoma"/>
                <a:ea typeface="Tahoma"/>
              </a:rPr>
              <a:t>Констатирует факты, но не объясняет их причин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ahoma"/>
                <a:ea typeface="Tahoma"/>
              </a:rPr>
              <a:t>Есть риск манипулирования значениями индикаторов (термометр – к свечке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30" name="Object 5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2714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3FAA-B180-4759-BB82-595B239FCE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Как узнать, достигнут ли запланированный результат?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533" name="Object 2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1768680" cy="2057400"/>
          </a:xfrm>
          <a:prstGeom prst="rect">
            <a:avLst/>
          </a:prstGeom>
          <a:ln w="0">
            <a:noFill/>
          </a:ln>
        </p:spPr>
      </p:pic>
      <p:sp>
        <p:nvSpPr>
          <p:cNvPr id="1534" name="Line 4"/>
          <p:cNvSpPr/>
          <p:nvPr/>
        </p:nvSpPr>
        <p:spPr>
          <a:xfrm>
            <a:off x="2438280" y="4343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5"/>
          <p:cNvSpPr/>
          <p:nvPr/>
        </p:nvSpPr>
        <p:spPr>
          <a:xfrm>
            <a:off x="1447920" y="4343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6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"/>
          <p:cNvSpPr/>
          <p:nvPr/>
        </p:nvSpPr>
        <p:spPr>
          <a:xfrm>
            <a:off x="190512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33520" y="2362320"/>
            <a:ext cx="685800" cy="533160"/>
          </a:xfrm>
          <a:prstGeom prst="wedgeEllipseCallout">
            <a:avLst>
              <a:gd name="adj1" fmla="val 120833"/>
              <a:gd name="adj2" fmla="val 19791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2838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2362320" y="1981080"/>
            <a:ext cx="609480" cy="457200"/>
          </a:xfrm>
          <a:prstGeom prst="wedgeEllipseCallout">
            <a:avLst>
              <a:gd name="adj1" fmla="val -44532"/>
              <a:gd name="adj2" fmla="val 23090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2838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457200" y="3352680"/>
            <a:ext cx="609480" cy="609840"/>
          </a:xfrm>
          <a:prstGeom prst="wedgeEllipseCallout">
            <a:avLst>
              <a:gd name="adj1" fmla="val 142189"/>
              <a:gd name="adj2" fmla="val 1020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2838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AutoShape 11"/>
          <p:cNvSpPr/>
          <p:nvPr/>
        </p:nvSpPr>
        <p:spPr>
          <a:xfrm>
            <a:off x="1295280" y="1981080"/>
            <a:ext cx="609840" cy="457200"/>
          </a:xfrm>
          <a:prstGeom prst="wedgeEllipseCallout">
            <a:avLst>
              <a:gd name="adj1" fmla="val 53125"/>
              <a:gd name="adj2" fmla="val 229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2838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2"/>
          <p:cNvSpPr/>
          <p:nvPr/>
        </p:nvSpPr>
        <p:spPr>
          <a:xfrm>
            <a:off x="4356000" y="2060640"/>
            <a:ext cx="4392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Для этого необходимо указ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измеряемые характеристи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результ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Если фактическ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характеристики совпадаю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с запланированным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то результат достигну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3" name="AutoShape 13"/>
          <p:cNvCxnSpPr/>
          <p:nvPr/>
        </p:nvCxnSpPr>
        <p:spPr>
          <a:xfrm>
            <a:off x="3123720" y="2895120"/>
            <a:ext cx="2520" cy="16009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44" name="AutoShape 14"/>
          <p:cNvCxnSpPr/>
          <p:nvPr/>
        </p:nvCxnSpPr>
        <p:spPr>
          <a:xfrm>
            <a:off x="1447560" y="5105160"/>
            <a:ext cx="9910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545" name="Text Box 15"/>
          <p:cNvSpPr/>
          <p:nvPr/>
        </p:nvSpPr>
        <p:spPr>
          <a:xfrm>
            <a:off x="1832760" y="46134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16"/>
          <p:cNvSpPr/>
          <p:nvPr/>
        </p:nvSpPr>
        <p:spPr>
          <a:xfrm>
            <a:off x="2763000" y="342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7" name="Object 2" descr=""/>
          <p:cNvPicPr/>
          <p:nvPr/>
        </p:nvPicPr>
        <p:blipFill>
          <a:blip r:embed="rId2"/>
          <a:stretch/>
        </p:blipFill>
        <p:spPr>
          <a:xfrm>
            <a:off x="1071720" y="2928960"/>
            <a:ext cx="176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76000" y="304560"/>
            <a:ext cx="7286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entury Gothic"/>
              </a:rPr>
              <a:t>Методы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1189080" y="2049120"/>
            <a:ext cx="7053120" cy="3668760"/>
          </a:xfrm>
          <a:prstGeom prst="rect">
            <a:avLst/>
          </a:prstGeom>
          <a:noFill/>
          <a:ln w="9360">
            <a:solidFill>
              <a:srgbClr val="de7e18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Замеры в сообществе в целом (например, социологический опрос)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Оценка влияния на участников программ (например, оценка тренингов).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Контрольные группы.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B970-C1E2-47A2-8EC6-E972CD410F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4"/>
          <p:cNvSpPr/>
          <p:nvPr/>
        </p:nvSpPr>
        <p:spPr>
          <a:xfrm>
            <a:off x="250920" y="692280"/>
            <a:ext cx="248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14F7-7597-469C-B0F2-7BC8DFBB1D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03280" y="304920"/>
            <a:ext cx="7740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Жизненный цикл проект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41" name="Group 4"/>
          <p:cNvGrpSpPr/>
          <p:nvPr/>
        </p:nvGrpSpPr>
        <p:grpSpPr>
          <a:xfrm>
            <a:off x="5068800" y="1531800"/>
            <a:ext cx="2265480" cy="1236600"/>
            <a:chOff x="5068800" y="1531800"/>
            <a:chExt cx="2265480" cy="1236600"/>
          </a:xfrm>
        </p:grpSpPr>
        <p:sp>
          <p:nvSpPr>
            <p:cNvPr id="1342" name="Oval 5"/>
            <p:cNvSpPr/>
            <p:nvPr/>
          </p:nvSpPr>
          <p:spPr>
            <a:xfrm>
              <a:off x="5439960" y="1915920"/>
              <a:ext cx="914400" cy="852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6"/>
            <p:cNvSpPr/>
            <p:nvPr/>
          </p:nvSpPr>
          <p:spPr>
            <a:xfrm>
              <a:off x="5068800" y="15318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Целеполаг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Group 7"/>
          <p:cNvGrpSpPr/>
          <p:nvPr/>
        </p:nvGrpSpPr>
        <p:grpSpPr>
          <a:xfrm>
            <a:off x="5940360" y="2924280"/>
            <a:ext cx="2647440" cy="1496520"/>
            <a:chOff x="5940360" y="2924280"/>
            <a:chExt cx="2647440" cy="1496520"/>
          </a:xfrm>
        </p:grpSpPr>
        <p:sp>
          <p:nvSpPr>
            <p:cNvPr id="1345" name="Oval 8"/>
            <p:cNvSpPr/>
            <p:nvPr/>
          </p:nvSpPr>
          <p:spPr>
            <a:xfrm>
              <a:off x="5940360" y="3301200"/>
              <a:ext cx="1000440" cy="1119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9"/>
            <p:cNvSpPr/>
            <p:nvPr/>
          </p:nvSpPr>
          <p:spPr>
            <a:xfrm>
              <a:off x="6412320" y="29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лан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Group 10"/>
          <p:cNvGrpSpPr/>
          <p:nvPr/>
        </p:nvGrpSpPr>
        <p:grpSpPr>
          <a:xfrm>
            <a:off x="3995640" y="4581360"/>
            <a:ext cx="2964240" cy="1066680"/>
            <a:chOff x="3995640" y="4581360"/>
            <a:chExt cx="2964240" cy="1066680"/>
          </a:xfrm>
        </p:grpSpPr>
        <p:sp>
          <p:nvSpPr>
            <p:cNvPr id="1348" name="Oval 11"/>
            <p:cNvSpPr/>
            <p:nvPr/>
          </p:nvSpPr>
          <p:spPr>
            <a:xfrm>
              <a:off x="3995640" y="4581360"/>
              <a:ext cx="1143000" cy="10666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12"/>
            <p:cNvSpPr/>
            <p:nvPr/>
          </p:nvSpPr>
          <p:spPr>
            <a:xfrm>
              <a:off x="5162040" y="5020920"/>
              <a:ext cx="17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еализ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Oval 13"/>
          <p:cNvSpPr/>
          <p:nvPr/>
        </p:nvSpPr>
        <p:spPr>
          <a:xfrm>
            <a:off x="971640" y="3789360"/>
            <a:ext cx="205740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2838"/>
                </a:solidFill>
                <a:latin typeface="Tahoma"/>
                <a:ea typeface="Arial"/>
              </a:rPr>
              <a:t>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Arc 14"/>
          <p:cNvSpPr/>
          <p:nvPr/>
        </p:nvSpPr>
        <p:spPr>
          <a:xfrm flipH="1" flipV="1" rot="4887000">
            <a:off x="2956680" y="3603600"/>
            <a:ext cx="1147680" cy="798480"/>
          </a:xfrm>
          <a:custGeom>
            <a:avLst/>
            <a:gdLst>
              <a:gd name="textAreaLeft" fmla="*/ 0 w 1147680"/>
              <a:gd name="textAreaRight" fmla="*/ 1147680 w 1147680"/>
              <a:gd name="textAreaTop" fmla="*/ 360 h 798480"/>
              <a:gd name="textAreaBottom" fmla="*/ 799200 h 798480"/>
            </a:gdLst>
            <a:ahLst/>
            <a:rect l="textAreaLeft" t="textAreaTop" r="textAreaRight" b="textAreaBottom"/>
            <a:pathLst>
              <a:path fill="none" w="43200" h="21932">
                <a:moveTo>
                  <a:pt x="2" y="21932"/>
                </a:moveTo>
                <a:cubicBezTo>
                  <a:pt x="0" y="21821"/>
                  <a:pt x="0" y="217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932">
                <a:moveTo>
                  <a:pt x="2" y="21932"/>
                </a:moveTo>
                <a:cubicBezTo>
                  <a:pt x="0" y="21821"/>
                  <a:pt x="0" y="217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" y="2193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Arc 15"/>
          <p:cNvSpPr/>
          <p:nvPr/>
        </p:nvSpPr>
        <p:spPr>
          <a:xfrm flipV="1">
            <a:off x="5076720" y="4436280"/>
            <a:ext cx="1139760" cy="576360"/>
          </a:xfrm>
          <a:custGeom>
            <a:avLst/>
            <a:gdLst>
              <a:gd name="textAreaLeft" fmla="*/ 0 w 1139760"/>
              <a:gd name="textAreaRight" fmla="*/ 1140120 w 11397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8523" h="21600">
                <a:moveTo>
                  <a:pt x="-1" y="1139"/>
                </a:moveTo>
                <a:cubicBezTo>
                  <a:pt x="2230" y="384"/>
                  <a:pt x="4568" y="-1"/>
                  <a:pt x="6923" y="0"/>
                </a:cubicBezTo>
                <a:cubicBezTo>
                  <a:pt x="18852" y="0"/>
                  <a:pt x="28523" y="9670"/>
                  <a:pt x="28523" y="21600"/>
                </a:cubicBezTo>
              </a:path>
              <a:path stroke="0" w="28523" h="21600">
                <a:moveTo>
                  <a:pt x="-1" y="1139"/>
                </a:moveTo>
                <a:cubicBezTo>
                  <a:pt x="2230" y="384"/>
                  <a:pt x="4568" y="-1"/>
                  <a:pt x="6923" y="0"/>
                </a:cubicBezTo>
                <a:cubicBezTo>
                  <a:pt x="18852" y="0"/>
                  <a:pt x="28523" y="9670"/>
                  <a:pt x="28523" y="21600"/>
                </a:cubicBezTo>
                <a:lnTo>
                  <a:pt x="6923" y="21600"/>
                </a:lnTo>
                <a:lnTo>
                  <a:pt x="-1" y="11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16"/>
          <p:cNvSpPr/>
          <p:nvPr/>
        </p:nvSpPr>
        <p:spPr>
          <a:xfrm flipV="1">
            <a:off x="2556000" y="3284640"/>
            <a:ext cx="72072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Arc 17"/>
          <p:cNvSpPr/>
          <p:nvPr/>
        </p:nvSpPr>
        <p:spPr>
          <a:xfrm rot="20658600">
            <a:off x="4070520" y="2352240"/>
            <a:ext cx="1358640" cy="505080"/>
          </a:xfrm>
          <a:custGeom>
            <a:avLst/>
            <a:gdLst>
              <a:gd name="textAreaLeft" fmla="*/ 0 w 1358640"/>
              <a:gd name="textAreaRight" fmla="*/ 1359000 w 1358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fill="none" w="22326" h="21600">
                <a:moveTo>
                  <a:pt x="-1" y="1002"/>
                </a:moveTo>
                <a:cubicBezTo>
                  <a:pt x="2104" y="338"/>
                  <a:pt x="4298" y="-1"/>
                  <a:pt x="6505" y="0"/>
                </a:cubicBezTo>
                <a:cubicBezTo>
                  <a:pt x="12507" y="0"/>
                  <a:pt x="18239" y="2497"/>
                  <a:pt x="22326" y="6894"/>
                </a:cubicBezTo>
              </a:path>
              <a:path stroke="0" w="22326" h="21600">
                <a:moveTo>
                  <a:pt x="-1" y="1002"/>
                </a:moveTo>
                <a:cubicBezTo>
                  <a:pt x="2104" y="338"/>
                  <a:pt x="4298" y="-1"/>
                  <a:pt x="6505" y="0"/>
                </a:cubicBezTo>
                <a:cubicBezTo>
                  <a:pt x="12507" y="0"/>
                  <a:pt x="18239" y="2497"/>
                  <a:pt x="22326" y="6894"/>
                </a:cubicBezTo>
                <a:lnTo>
                  <a:pt x="6505" y="21600"/>
                </a:lnTo>
                <a:lnTo>
                  <a:pt x="-1" y="10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Arc 18"/>
          <p:cNvSpPr/>
          <p:nvPr/>
        </p:nvSpPr>
        <p:spPr>
          <a:xfrm rot="6312000">
            <a:off x="4125960" y="2577240"/>
            <a:ext cx="1241640" cy="308772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fill="none" w="16528" h="20462">
                <a:moveTo>
                  <a:pt x="6918" y="-1"/>
                </a:moveTo>
                <a:cubicBezTo>
                  <a:pt x="10660" y="1265"/>
                  <a:pt x="13984" y="3532"/>
                  <a:pt x="16528" y="6555"/>
                </a:cubicBezTo>
              </a:path>
              <a:path stroke="0" w="16528" h="20462">
                <a:moveTo>
                  <a:pt x="6918" y="-1"/>
                </a:moveTo>
                <a:cubicBezTo>
                  <a:pt x="10660" y="1265"/>
                  <a:pt x="13984" y="3532"/>
                  <a:pt x="16528" y="6555"/>
                </a:cubicBezTo>
                <a:lnTo>
                  <a:pt x="0" y="20462"/>
                </a:lnTo>
                <a:lnTo>
                  <a:pt x="6918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rc 19"/>
          <p:cNvSpPr/>
          <p:nvPr/>
        </p:nvSpPr>
        <p:spPr>
          <a:xfrm rot="5713800">
            <a:off x="5306040" y="1570680"/>
            <a:ext cx="849240" cy="2803680"/>
          </a:xfrm>
          <a:custGeom>
            <a:avLst/>
            <a:gdLst>
              <a:gd name="textAreaLeft" fmla="*/ 0 w 849240"/>
              <a:gd name="textAreaRight" fmla="*/ 849600 w 84924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fill="none" w="23486" h="21600">
                <a:moveTo>
                  <a:pt x="0" y="7444"/>
                </a:moveTo>
                <a:cubicBezTo>
                  <a:pt x="4102" y="2715"/>
                  <a:pt x="10054" y="-1"/>
                  <a:pt x="16315" y="0"/>
                </a:cubicBezTo>
                <a:cubicBezTo>
                  <a:pt x="18757" y="0"/>
                  <a:pt x="21182" y="414"/>
                  <a:pt x="23485" y="1225"/>
                </a:cubicBezTo>
              </a:path>
              <a:path stroke="0" w="23486" h="21600">
                <a:moveTo>
                  <a:pt x="0" y="7444"/>
                </a:moveTo>
                <a:cubicBezTo>
                  <a:pt x="4102" y="2715"/>
                  <a:pt x="10054" y="-1"/>
                  <a:pt x="16315" y="0"/>
                </a:cubicBezTo>
                <a:cubicBezTo>
                  <a:pt x="18757" y="0"/>
                  <a:pt x="21182" y="414"/>
                  <a:pt x="23485" y="1225"/>
                </a:cubicBezTo>
                <a:lnTo>
                  <a:pt x="16315" y="21600"/>
                </a:lnTo>
                <a:lnTo>
                  <a:pt x="0" y="74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rc 20"/>
          <p:cNvSpPr/>
          <p:nvPr/>
        </p:nvSpPr>
        <p:spPr>
          <a:xfrm rot="17922600">
            <a:off x="2311200" y="3411720"/>
            <a:ext cx="1209600" cy="50472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19853" h="21600">
                <a:moveTo>
                  <a:pt x="0" y="39"/>
                </a:moveTo>
                <a:cubicBezTo>
                  <a:pt x="433" y="13"/>
                  <a:pt x="868" y="-1"/>
                  <a:pt x="1303" y="0"/>
                </a:cubicBezTo>
                <a:cubicBezTo>
                  <a:pt x="8909" y="0"/>
                  <a:pt x="15955" y="4001"/>
                  <a:pt x="19853" y="10533"/>
                </a:cubicBezTo>
              </a:path>
              <a:path stroke="0" w="19853" h="21600">
                <a:moveTo>
                  <a:pt x="0" y="39"/>
                </a:moveTo>
                <a:cubicBezTo>
                  <a:pt x="433" y="13"/>
                  <a:pt x="868" y="-1"/>
                  <a:pt x="1303" y="0"/>
                </a:cubicBezTo>
                <a:cubicBezTo>
                  <a:pt x="8909" y="0"/>
                  <a:pt x="15955" y="4001"/>
                  <a:pt x="19853" y="10533"/>
                </a:cubicBezTo>
                <a:lnTo>
                  <a:pt x="1303" y="21600"/>
                </a:lnTo>
                <a:lnTo>
                  <a:pt x="0" y="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rc 21"/>
          <p:cNvSpPr/>
          <p:nvPr/>
        </p:nvSpPr>
        <p:spPr>
          <a:xfrm rot="11499600">
            <a:off x="2916000" y="4797000"/>
            <a:ext cx="1110960" cy="22068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fill="none" w="32621" h="21600">
                <a:moveTo>
                  <a:pt x="-1" y="14216"/>
                </a:moveTo>
                <a:cubicBezTo>
                  <a:pt x="3104" y="5681"/>
                  <a:pt x="11216" y="-1"/>
                  <a:pt x="20299" y="0"/>
                </a:cubicBezTo>
                <a:cubicBezTo>
                  <a:pt x="24703" y="0"/>
                  <a:pt x="29003" y="1346"/>
                  <a:pt x="32621" y="3859"/>
                </a:cubicBezTo>
              </a:path>
              <a:path stroke="0" w="32621" h="21600">
                <a:moveTo>
                  <a:pt x="-1" y="14216"/>
                </a:moveTo>
                <a:cubicBezTo>
                  <a:pt x="3104" y="5681"/>
                  <a:pt x="11216" y="-1"/>
                  <a:pt x="20299" y="0"/>
                </a:cubicBezTo>
                <a:cubicBezTo>
                  <a:pt x="24703" y="0"/>
                  <a:pt x="29003" y="1346"/>
                  <a:pt x="32621" y="3859"/>
                </a:cubicBezTo>
                <a:lnTo>
                  <a:pt x="20299" y="21600"/>
                </a:lnTo>
                <a:lnTo>
                  <a:pt x="-1" y="142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Group 38"/>
          <p:cNvGrpSpPr/>
          <p:nvPr/>
        </p:nvGrpSpPr>
        <p:grpSpPr>
          <a:xfrm>
            <a:off x="2500200" y="1785960"/>
            <a:ext cx="2684160" cy="1718640"/>
            <a:chOff x="2500200" y="1785960"/>
            <a:chExt cx="2684160" cy="1718640"/>
          </a:xfrm>
        </p:grpSpPr>
        <p:sp>
          <p:nvSpPr>
            <p:cNvPr id="1360" name="Oval 39"/>
            <p:cNvSpPr/>
            <p:nvPr/>
          </p:nvSpPr>
          <p:spPr>
            <a:xfrm>
              <a:off x="2919240" y="2365200"/>
              <a:ext cx="1055160" cy="1139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40"/>
            <p:cNvSpPr/>
            <p:nvPr/>
          </p:nvSpPr>
          <p:spPr>
            <a:xfrm>
              <a:off x="2500200" y="1785960"/>
              <a:ext cx="268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Иници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1649-A2A5-42D1-8100-F7B8DB16D3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4"/>
          <p:cNvSpPr/>
          <p:nvPr/>
        </p:nvSpPr>
        <p:spPr>
          <a:xfrm>
            <a:off x="4806000" y="2579760"/>
            <a:ext cx="3722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 и что ?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м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4" name="Object 6"/>
          <p:cNvGraphicFramePr/>
          <p:nvPr/>
        </p:nvGraphicFramePr>
        <p:xfrm>
          <a:off x="2268360" y="3500280"/>
          <a:ext cx="16542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500280"/>
                    <a:ext cx="1654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6" name="Text Box 7"/>
          <p:cNvSpPr/>
          <p:nvPr/>
        </p:nvSpPr>
        <p:spPr>
          <a:xfrm>
            <a:off x="2627280" y="981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ОЦЕН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Arial"/>
              </a:rPr>
              <a:t>Виды оценки </a:t>
            </a:r>
            <a:br>
              <a:rPr sz="3000"/>
            </a:b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по М.Скривену)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19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Arial"/>
              </a:rPr>
              <a:t>Формирующая: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по результатам корректируется ход программы (повар пробует суп)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Arial"/>
              </a:rPr>
              <a:t>Итоговая: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по результатам извлекаются  уроки на будущее (гости пробуют суп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559" name="Object 4"/>
          <p:cNvGraphicFramePr/>
          <p:nvPr/>
        </p:nvGraphicFramePr>
        <p:xfrm>
          <a:off x="6948360" y="620640"/>
          <a:ext cx="1808280" cy="20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620640"/>
                    <a:ext cx="18082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1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2CF2-D800-44C0-A5BD-CE928E1EEE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9818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2f0694"/>
                </a:solidFill>
                <a:latin typeface="Century Gothic"/>
              </a:rPr>
              <a:t>Формирующая оценка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280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ценка потребностей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определяет несоответствие между существующим и желаемым положение дел относительно како-либо ситуации, выявляет существующие потребности и располагает их в порядке приоритетност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ценка процесса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описывает то, как в действительности  функционирует та или иная программа, каким образом реализация программы приводит к достижению желаемых результатов, и каковы сильные и слабые стороны программ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F15E-50E5-457C-89F3-67AC53D47C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Object 4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56912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2f0694"/>
                </a:solidFill>
                <a:latin typeface="Century Gothic"/>
              </a:rPr>
              <a:t>Итоговая</a:t>
            </a:r>
            <a:r>
              <a:rPr b="1" lang="en-US" sz="3000" spc="-1" strike="noStrike">
                <a:solidFill>
                  <a:srgbClr val="2f0694"/>
                </a:solidFill>
                <a:latin typeface="Century Gothic"/>
              </a:rPr>
              <a:t>  оценка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1F04-77A0-475E-8291-6854B06532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250920" y="1484280"/>
            <a:ext cx="87138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ет определить, какие программы и виды деятельности организации действительно приводят к достижению запланированных результа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воз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зволяет определить изменения в благосостоянии люд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получателей, которые могут быть отнесены на счет определенного проекта или программы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экономической эффективности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ьзует экономические методы для оценки соотношения произвед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трат и полученных результатов программы, выраженных в денеж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ношени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оотношении затрат и результатов программы, выраж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затратах на единицу полученного результата</a:t>
            </a:r>
            <a:r>
              <a:rPr b="0" i="1" lang="en-US" sz="2000" spc="-1" strike="noStrike">
                <a:solidFill>
                  <a:srgbClr val="e3eac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e3eac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9" name="Object 4" descr=""/>
          <p:cNvPicPr/>
          <p:nvPr/>
        </p:nvPicPr>
        <p:blipFill>
          <a:blip r:embed="rId1"/>
          <a:stretch/>
        </p:blipFill>
        <p:spPr>
          <a:xfrm>
            <a:off x="6172200" y="476280"/>
            <a:ext cx="27241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Arial"/>
              </a:rPr>
              <a:t>Кто может проводить оценку  (мониторинг) программы?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3641-4A67-4F55-A5E5-34D3AB8F0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2" name="Picture 3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4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438640" cy="1617840"/>
          </a:xfrm>
          <a:prstGeom prst="rect">
            <a:avLst/>
          </a:prstGeom>
          <a:ln w="0">
            <a:noFill/>
          </a:ln>
        </p:spPr>
      </p:pic>
      <p:sp>
        <p:nvSpPr>
          <p:cNvPr id="1574" name="Rectangle 5"/>
          <p:cNvSpPr/>
          <p:nvPr/>
        </p:nvSpPr>
        <p:spPr>
          <a:xfrm>
            <a:off x="2819520" y="1523880"/>
            <a:ext cx="5715000" cy="4800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6"/>
          <p:cNvSpPr/>
          <p:nvPr/>
        </p:nvSpPr>
        <p:spPr>
          <a:xfrm>
            <a:off x="3276720" y="3809880"/>
            <a:ext cx="5029200" cy="221004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7"/>
          <p:cNvSpPr/>
          <p:nvPr/>
        </p:nvSpPr>
        <p:spPr>
          <a:xfrm>
            <a:off x="5865480" y="2209680"/>
            <a:ext cx="267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ринимающ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я в програм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8"/>
          <p:cNvSpPr/>
          <p:nvPr/>
        </p:nvSpPr>
        <p:spPr>
          <a:xfrm>
            <a:off x="303480" y="3276720"/>
            <a:ext cx="181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ис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9"/>
          <p:cNvSpPr/>
          <p:nvPr/>
        </p:nvSpPr>
        <p:spPr>
          <a:xfrm>
            <a:off x="5105520" y="487692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10"/>
          <p:cNvSpPr/>
          <p:nvPr/>
        </p:nvSpPr>
        <p:spPr>
          <a:xfrm>
            <a:off x="3505680" y="388620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6f54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11"/>
          <p:cNvSpPr/>
          <p:nvPr/>
        </p:nvSpPr>
        <p:spPr>
          <a:xfrm>
            <a:off x="3124080" y="160020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6f54"/>
                </a:solidFill>
                <a:latin typeface="Arial"/>
              </a:rPr>
              <a:t>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AutoShape 12"/>
          <p:cNvSpPr/>
          <p:nvPr/>
        </p:nvSpPr>
        <p:spPr>
          <a:xfrm>
            <a:off x="609480" y="2438280"/>
            <a:ext cx="1524240" cy="609840"/>
          </a:xfrm>
          <a:prstGeom prst="wedgeRectCallout">
            <a:avLst>
              <a:gd name="adj1" fmla="val -31250"/>
              <a:gd name="adj2" fmla="val 95050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AutoShape 13"/>
          <p:cNvSpPr/>
          <p:nvPr/>
        </p:nvSpPr>
        <p:spPr>
          <a:xfrm>
            <a:off x="6858000" y="1143000"/>
            <a:ext cx="1905120" cy="609480"/>
          </a:xfrm>
          <a:prstGeom prst="wedgeRectCallout">
            <a:avLst>
              <a:gd name="adj1" fmla="val -30250"/>
              <a:gd name="adj2" fmla="val 121615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AutoShape 14"/>
          <p:cNvSpPr/>
          <p:nvPr/>
        </p:nvSpPr>
        <p:spPr>
          <a:xfrm>
            <a:off x="3048120" y="5867280"/>
            <a:ext cx="2819160" cy="609840"/>
          </a:xfrm>
          <a:prstGeom prst="wedgeRectCallout">
            <a:avLst>
              <a:gd name="adj1" fmla="val 35305"/>
              <a:gd name="adj2" fmla="val -99481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-оце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4" name="Object 15"/>
          <p:cNvGraphicFramePr/>
          <p:nvPr/>
        </p:nvGraphicFramePr>
        <p:xfrm>
          <a:off x="6858000" y="3886200"/>
          <a:ext cx="609480" cy="21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3886200"/>
                    <a:ext cx="60948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78" nodeType="afterEffect" fill="hold" presetClass="entr" presetID="2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0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805" nodeType="afterEffect" fill="hold" presetClass="entr" presetID="2" presetSubtype="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81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entury Gothic"/>
              </a:rPr>
              <a:t>Самооценивание: </a:t>
            </a:r>
            <a:br>
              <a:rPr sz="3000"/>
            </a:br>
            <a:r>
              <a:rPr b="1" lang="en-US" sz="3000" spc="-1" strike="noStrike">
                <a:solidFill>
                  <a:srgbClr val="000099"/>
                </a:solidFill>
                <a:latin typeface="Century Gothic"/>
              </a:rPr>
              <a:t>преимущества  и  недостатки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831960" y="1412640"/>
            <a:ext cx="3876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 u="sng">
                <a:solidFill>
                  <a:srgbClr val="404040"/>
                </a:solidFill>
                <a:uFillTx/>
                <a:latin typeface="Century Gothic"/>
              </a:rPr>
              <a:t>Преимущества: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Является неотъемлемой частью жизни организации и заложена в практику её деятельност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Умение и навыки, необходимые для проведения самооценивания, рассосредоточены между всеми членами организаци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Б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ольшая вероятность использования полученных данных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Процесс самооценивания представляет развивающую деятельность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Рентабельность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932360" y="1341000"/>
            <a:ext cx="3983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Недостатки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Оценка требует времени, и ей может быть отведена вспомогательная роль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е все сотрудники организации обладают навыками и знаниями. Необходимыми для проведения оценки, или не желают развивать их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Сложнее обеспечить надежность данных и объективность выводов, так как все участники оценки являются сотрудниками программы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9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E349-1666-4827-9BAA-5CAA2E6ACD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Object 5" descr=""/>
          <p:cNvPicPr/>
          <p:nvPr/>
        </p:nvPicPr>
        <p:blipFill>
          <a:blip r:embed="rId1"/>
          <a:stretch/>
        </p:blipFill>
        <p:spPr>
          <a:xfrm>
            <a:off x="5715000" y="5181480"/>
            <a:ext cx="221940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6834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Gothic"/>
              </a:rPr>
              <a:t>Внутренняя оценка: </a:t>
            </a:r>
            <a:br>
              <a:rPr sz="2700"/>
            </a:br>
            <a:r>
              <a:rPr b="1" lang="en-US" sz="2700" spc="-1" strike="noStrike">
                <a:solidFill>
                  <a:srgbClr val="000099"/>
                </a:solidFill>
                <a:latin typeface="Century Gothic"/>
              </a:rPr>
              <a:t>преимущества и недостатки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611280" y="1483920"/>
            <a:ext cx="3657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Преимущества</a:t>
            </a:r>
            <a:r>
              <a:rPr b="1" lang="en-US" sz="13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Хорошее знание ситуаци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озможно проследить за выполнением рекомендаций и способствовать их выполнению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Знание культуры и атмосферы организации, и её программ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Относительно дешево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Доверие участников программы и, как следствие, большая вероятность получения качественных данных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4500720" y="1413000"/>
            <a:ext cx="395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Century Gothic"/>
              </a:rPr>
              <a:t>Недостатки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ожет восприниматься как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енее объективная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ожет свести к акции по поддержке связей с общественность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ожет «увязнуть», собирая массу мелких деталей и учитывая все, что необходимо отразить в отчете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ожет не хватить умения для выполнения задания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4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FA4-6565-42F0-83E7-1613FFF4BF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Object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871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5624640" cy="107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Gothic"/>
              </a:rPr>
              <a:t>Внешняя оценка: </a:t>
            </a:r>
            <a:br>
              <a:rPr sz="2700"/>
            </a:br>
            <a:r>
              <a:rPr b="1" lang="en-US" sz="2700" spc="-1" strike="noStrike">
                <a:solidFill>
                  <a:srgbClr val="000099"/>
                </a:solidFill>
                <a:latin typeface="Century Gothic"/>
              </a:rPr>
              <a:t>преимущества и недостатки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539640" y="1267920"/>
            <a:ext cx="37339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</a:rPr>
              <a:t>Преимущества: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Свежий взгляд, могут быть заданы важные вопросы, которые не всегда очевидня для сотрудников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езависимость и объективность, повышающие доверие результатам оценки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Опыт проведения оценки разных программ в разных организациях и, как следствие, больший набор апробированных приемов и методов проведения оценки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Авторитет независимого эксперта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Оценщик полностью сосредоточен на задаче проведения оценки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4788000" y="12682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e3eacf"/>
                </a:solidFill>
                <a:latin typeface="Century Gothic"/>
              </a:rPr>
              <a:t>Недостатки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Отстраненность от программы может привести к неправильно поставленным акцентам и сбору некачественных данных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После завершения работы по оценке организация теряет много информации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Может не хватить авторитета для получения доступа к соответствующей группе для обсуждения и распространения полученных данных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е несет ответственности за использование результатов и рекомендации, сделанных в ходе оценки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;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Стоит дороже.</a:t>
            </a:r>
            <a:r>
              <a:rPr b="0" lang="en-US" sz="1700" spc="-1" strike="noStrike">
                <a:solidFill>
                  <a:srgbClr val="e3eac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9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B9FB-FFAB-4000-81FB-2727925855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Object 5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0826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E606-3011-4EC4-AE44-6B84D5A86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2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остановка задачи на оценку программы: формулирование вопросов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1035000" y="2859120"/>
            <a:ext cx="7005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то мы хотим понять относительно нашей программы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ак мы собираемся использовать эту информацию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6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FBF2-4BD2-4635-BBBC-29296C1152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C012-8C16-49F3-9D0B-3F45688222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/>
          </p:nvPr>
        </p:nvSpPr>
        <p:spPr>
          <a:xfrm>
            <a:off x="1596960" y="404280"/>
            <a:ext cx="75470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Принципы контроля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64" name="Picture 3" descr="BD18254_"/>
          <p:cNvPicPr/>
          <p:nvPr/>
        </p:nvPicPr>
        <p:blipFill>
          <a:blip r:embed="rId1"/>
          <a:stretch/>
        </p:blipFill>
        <p:spPr>
          <a:xfrm>
            <a:off x="1943280" y="1143000"/>
            <a:ext cx="7200720" cy="5479920"/>
          </a:xfrm>
          <a:prstGeom prst="rect">
            <a:avLst/>
          </a:prstGeom>
          <a:ln w="0">
            <a:noFill/>
          </a:ln>
        </p:spPr>
      </p:pic>
      <p:sp>
        <p:nvSpPr>
          <p:cNvPr id="1365" name="Rectangle 4"/>
          <p:cNvSpPr/>
          <p:nvPr/>
        </p:nvSpPr>
        <p:spPr>
          <a:xfrm>
            <a:off x="1285920" y="585792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22838"/>
                </a:solidFill>
                <a:latin typeface="Verdana"/>
                <a:ea typeface="Arial"/>
              </a:rPr>
              <a:t>ресур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5"/>
          <p:cNvSpPr/>
          <p:nvPr/>
        </p:nvSpPr>
        <p:spPr>
          <a:xfrm>
            <a:off x="6289920" y="571500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22838"/>
                </a:solidFill>
                <a:latin typeface="Verdana"/>
                <a:ea typeface="Arial"/>
              </a:rPr>
              <a:t>результат</a:t>
            </a:r>
            <a:r>
              <a:rPr b="1" lang="ru-RU" sz="3600" spc="-1" strike="noStrike">
                <a:solidFill>
                  <a:srgbClr val="130141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6"/>
          <p:cNvSpPr/>
          <p:nvPr/>
        </p:nvSpPr>
        <p:spPr>
          <a:xfrm>
            <a:off x="3714840" y="1500120"/>
            <a:ext cx="201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2838"/>
                </a:solidFill>
                <a:latin typeface="Verdana"/>
                <a:ea typeface="Arial"/>
              </a:rPr>
              <a:t>деятельность</a:t>
            </a:r>
            <a:r>
              <a:rPr b="0" lang="ru-RU" sz="3600" spc="-1" strike="noStrike">
                <a:solidFill>
                  <a:srgbClr val="130141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7"/>
          <p:cNvSpPr/>
          <p:nvPr/>
        </p:nvSpPr>
        <p:spPr>
          <a:xfrm>
            <a:off x="3765960" y="464328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22838"/>
                </a:solidFill>
                <a:latin typeface="Verdana"/>
                <a:ea typeface="Arial"/>
              </a:rPr>
              <a:t>КОНТРОЛЬ</a:t>
            </a:r>
            <a:r>
              <a:rPr b="0" lang="ru-RU" sz="3600" spc="-1" strike="noStrike">
                <a:solidFill>
                  <a:srgbClr val="130141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интересованные стороны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394920" y="980640"/>
            <a:ext cx="85201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Лицо, физическое или юридическое, у которого есть «интерес» в оцениваемой программе, ситуации или вопросе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Лицо, на которое оцениваемая программа, ситуация или вопрос влияют напрямую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Лицо, которое может напрямую влиять на оцениваемую программу, ситуацию или вопрос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Лицо, которое хочет получить ответ на вопрос, касающийся оцениваемой программы, ситуации или вопроса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CF5F-F8B0-4C1C-8DB2-1CBBE4BCE8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4" descr="PE01561_"/>
          <p:cNvPicPr/>
          <p:nvPr/>
        </p:nvPicPr>
        <p:blipFill>
          <a:blip r:embed="rId1"/>
          <a:stretch/>
        </p:blipFill>
        <p:spPr>
          <a:xfrm>
            <a:off x="5580000" y="5084640"/>
            <a:ext cx="2305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C3DE-CC81-4694-A1F3-E98157080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2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35336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Планирование оценки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761760" y="1197000"/>
            <a:ext cx="8001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На какие вопросы нужно ответить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Что нужно знать для ответа на эти вопросы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Что мы уже знаем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ой информации не хватает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Где есть недостающая информация (источники информации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 можно ее получить с учетом существующих ограничений (методы сбора данных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ие инструменты необходимо подготовить для сбора и анализа данных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то будет проводить оценку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овы будут основные этапы проведения оценки (последовательность, продолжительность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Что необходимо для проведения оценки с организационной и технической точки зрени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87280" indent="-287280">
              <a:lnSpc>
                <a:spcPct val="60000"/>
              </a:lnSpc>
              <a:spcBef>
                <a:spcPts val="1001"/>
              </a:spcBef>
              <a:spcAft>
                <a:spcPts val="711"/>
              </a:spcAft>
              <a:buClr>
                <a:srgbClr val="00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Каков будет бюджет оценк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6CD8-BE83-4E5C-8DC7-F3DA75E81E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ОЙ ВОПРОС ОЦЕНКИ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1403280" y="2421000"/>
            <a:ext cx="63993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404040"/>
                </a:solidFill>
                <a:latin typeface="Century Gothic"/>
              </a:rPr>
              <a:t>УСПЕШЕН ЛИ ПРОЕКТ?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269F-8D1E-4B3B-8C5F-DEBF32ABF7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4" descr=""/>
          <p:cNvPicPr/>
          <p:nvPr/>
        </p:nvPicPr>
        <p:blipFill>
          <a:blip r:embed="rId1"/>
          <a:stretch/>
        </p:blipFill>
        <p:spPr>
          <a:xfrm>
            <a:off x="3635280" y="3284640"/>
            <a:ext cx="2808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262626"/>
                </a:solidFill>
                <a:latin typeface="Arial"/>
              </a:rPr>
              <a:t>Я действительно хотел/а бы узнать о программе следующее</a:t>
            </a:r>
            <a:r>
              <a:rPr b="1" lang="en-US" sz="3100" spc="-1" strike="noStrike">
                <a:solidFill>
                  <a:srgbClr val="262626"/>
                </a:solidFill>
                <a:latin typeface="Arial"/>
              </a:rPr>
              <a:t>…</a:t>
            </a:r>
            <a:br>
              <a:rPr sz="3100"/>
            </a:br>
            <a:r>
              <a:rPr b="0" i="1" lang="ru-RU" sz="2600" spc="-1" strike="noStrike">
                <a:solidFill>
                  <a:srgbClr val="262626"/>
                </a:solidFill>
                <a:latin typeface="Arial"/>
              </a:rPr>
              <a:t>(какая информация нужна)</a:t>
            </a: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3427-EBAE-4599-8DC5-7EF0262A65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3"/>
          <p:cNvSpPr/>
          <p:nvPr/>
        </p:nvSpPr>
        <p:spPr>
          <a:xfrm>
            <a:off x="762120" y="44956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66f54"/>
                </a:solidFill>
                <a:latin typeface="Arial"/>
              </a:rPr>
              <a:t>Когда я узнаю это, я </a:t>
            </a:r>
            <a:r>
              <a:rPr b="1" lang="en-US" sz="3500" spc="-1" strike="noStrike">
                <a:solidFill>
                  <a:srgbClr val="766f54"/>
                </a:solidFill>
                <a:latin typeface="Arial"/>
              </a:rPr>
              <a:t>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766f54"/>
                </a:solidFill>
                <a:latin typeface="Arial"/>
              </a:rPr>
              <a:t>(как эта информация будет использован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4"/>
          <p:cNvSpPr/>
          <p:nvPr/>
        </p:nvSpPr>
        <p:spPr>
          <a:xfrm>
            <a:off x="457200" y="685800"/>
            <a:ext cx="8381880" cy="990720"/>
          </a:xfrm>
          <a:prstGeom prst="rect">
            <a:avLst/>
          </a:prstGeom>
          <a:solidFill>
            <a:srgbClr val="fb4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66f54"/>
                </a:solidFill>
                <a:latin typeface="Arial"/>
              </a:rPr>
              <a:t>Как сформулировать хороший вопрос</a:t>
            </a:r>
            <a:r>
              <a:rPr b="1" lang="en-US" sz="3000" spc="-1" strike="noStrike">
                <a:solidFill>
                  <a:srgbClr val="766f54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633E-DCCB-462A-972A-B58B11F419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2"/>
          <p:cNvSpPr/>
          <p:nvPr/>
        </p:nvSpPr>
        <p:spPr>
          <a:xfrm>
            <a:off x="838080" y="260280"/>
            <a:ext cx="769644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изнаки хорошего вопрос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я ответа на этот вопрос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получить информацию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помощью эмпирического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вопрос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заложен 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, кто будут принимать решения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о нужд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получении информации для ответа на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, кто будут принимать решения и пользоваться информацией, хотят получить ответ на вопрос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себ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а не для кого-то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, кто будут принимать решения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т объяснить, как они будут использовать 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то есть как ответ будет влиять на их дальнейшие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08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Источники данных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2819160" y="1052280"/>
            <a:ext cx="60958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пределить, какие источники содержат наибольшее количество необходимой информации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установить взаимодействие с организациями, ответственными за сбор этих данных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разработать механизмы для сбора, обработки, интерпретации и презентации данных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C4BE-D545-4B78-9F16-93C898398E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655640" cy="136044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5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1871640" cy="1173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6" descr="j0090572"/>
          <p:cNvPicPr/>
          <p:nvPr/>
        </p:nvPicPr>
        <p:blipFill>
          <a:blip r:embed="rId3"/>
          <a:stretch/>
        </p:blipFill>
        <p:spPr>
          <a:xfrm>
            <a:off x="250920" y="4869000"/>
            <a:ext cx="19447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5427-8F30-43FC-A234-CD57B1EDB0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4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E6A5-6FED-486F-A754-D433702D8A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сбора информации 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ИНСТРУМЕНТЫ МОНИТОРИНГА и ОЦЕНКИ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-360" y="1773000"/>
            <a:ext cx="3616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Анкетирован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Наблюден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нтервьюирование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Фокус-групп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зучение документаци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4814640" y="1267920"/>
            <a:ext cx="4329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Факторы, определяющие выбор метода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атрат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требность в обучени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рок завершения рабо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ероятность получения ответ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(Предполагаемая) объективность результат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40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149544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4" descr="j0282993"/>
          <p:cNvPicPr/>
          <p:nvPr/>
        </p:nvPicPr>
        <p:blipFill>
          <a:blip r:embed="rId2"/>
          <a:stretch/>
        </p:blipFill>
        <p:spPr>
          <a:xfrm>
            <a:off x="7575480" y="5429160"/>
            <a:ext cx="1568520" cy="1428840"/>
          </a:xfrm>
          <a:prstGeom prst="rect">
            <a:avLst/>
          </a:prstGeom>
          <a:ln w="0">
            <a:noFill/>
          </a:ln>
        </p:spPr>
      </p:pic>
      <p:pic>
        <p:nvPicPr>
          <p:cNvPr id="1642" name="Object 7" descr=""/>
          <p:cNvPicPr/>
          <p:nvPr/>
        </p:nvPicPr>
        <p:blipFill>
          <a:blip r:embed="rId3"/>
          <a:stretch/>
        </p:blipFill>
        <p:spPr>
          <a:xfrm>
            <a:off x="2643120" y="4714920"/>
            <a:ext cx="184644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0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3827-2661-4CBF-B7E6-D48628F0A7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ИНСТРУМЕНТЫ МОНИТОРИНГ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0" y="1125000"/>
            <a:ext cx="4284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Рекомендации по  анкет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оответствие: вопросы соответствуют  цели, уровню и возможностям респондент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опросы - ясные, по стилистике подходят сообществу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Анкета несложная и  короткая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пробовать анкету - раздать небольшой группе</a:t>
            </a:r>
            <a:r>
              <a:rPr b="0" lang="ru-RU" sz="2000" spc="-1" strike="noStrike">
                <a:solidFill>
                  <a:srgbClr val="010002"/>
                </a:solidFill>
                <a:latin typeface="Century Gothic"/>
              </a:rPr>
              <a:t> людей, чтобы они рассказали о впечатлениях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Позволяют ли вопросы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получить нужную  информацию?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Легко ли ее заполнять?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Что можно убрать из анкеты?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10002"/>
                </a:solidFill>
                <a:latin typeface="Century Gothic"/>
              </a:rPr>
              <a:t>Что необходимо добавить?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4500720" y="928800"/>
            <a:ext cx="46432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Интервью</a:t>
            </a: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 –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едставляет собой личное общение с респондентом – задаются  вопросы и записываются ответы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прямое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(непосредственная беседа)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опосредованное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(беседа по телефону)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формализованное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(заранее разрабатывается вопросник)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фокусированное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(в центр внимания конкретное явление)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свободное интервью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(свободная беседа без заранее заданной темы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47" name="Picture 4" descr=""/>
          <p:cNvPicPr/>
          <p:nvPr/>
        </p:nvPicPr>
        <p:blipFill>
          <a:blip r:embed="rId1"/>
          <a:stretch/>
        </p:blipFill>
        <p:spPr>
          <a:xfrm>
            <a:off x="4500720" y="5452920"/>
            <a:ext cx="1484280" cy="140508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4" descr="j0079061"/>
          <p:cNvPicPr/>
          <p:nvPr/>
        </p:nvPicPr>
        <p:blipFill>
          <a:blip r:embed="rId2"/>
          <a:stretch/>
        </p:blipFill>
        <p:spPr>
          <a:xfrm>
            <a:off x="7286760" y="5357880"/>
            <a:ext cx="15444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1984-B1BF-4F85-846B-4ABE60C0AC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232000" y="260280"/>
            <a:ext cx="69120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Tahoma"/>
              </a:rPr>
              <a:t>Принципы контроля</a:t>
            </a:r>
            <a:endParaRPr b="0" lang="en-US" sz="3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216080" y="1197000"/>
            <a:ext cx="7927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ahoma"/>
              </a:rPr>
              <a:t>Наличие методов измере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AutoShape 4"/>
          <p:cNvSpPr/>
          <p:nvPr/>
        </p:nvSpPr>
        <p:spPr>
          <a:xfrm>
            <a:off x="1763640" y="1773360"/>
            <a:ext cx="1079640" cy="1871640"/>
          </a:xfrm>
          <a:prstGeom prst="downArrow">
            <a:avLst>
              <a:gd name="adj1" fmla="val 50000"/>
              <a:gd name="adj2" fmla="val 43339"/>
            </a:avLst>
          </a:prstGeom>
          <a:solidFill>
            <a:srgbClr val="00b050">
              <a:alpha val="50000"/>
            </a:srgbClr>
          </a:solidFill>
          <a:ln w="46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5"/>
          <p:cNvSpPr/>
          <p:nvPr/>
        </p:nvSpPr>
        <p:spPr>
          <a:xfrm>
            <a:off x="4356000" y="1773360"/>
            <a:ext cx="1224000" cy="1942920"/>
          </a:xfrm>
          <a:prstGeom prst="downArrow">
            <a:avLst>
              <a:gd name="adj1" fmla="val 50000"/>
              <a:gd name="adj2" fmla="val 39684"/>
            </a:avLst>
          </a:prstGeom>
          <a:solidFill>
            <a:srgbClr val="00b050">
              <a:alpha val="57000"/>
            </a:srgbClr>
          </a:solidFill>
          <a:ln w="46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6"/>
          <p:cNvSpPr/>
          <p:nvPr/>
        </p:nvSpPr>
        <p:spPr>
          <a:xfrm>
            <a:off x="6732720" y="1773360"/>
            <a:ext cx="1224000" cy="1871640"/>
          </a:xfrm>
          <a:prstGeom prst="downArrow">
            <a:avLst>
              <a:gd name="adj1" fmla="val 50000"/>
              <a:gd name="adj2" fmla="val 38228"/>
            </a:avLst>
          </a:prstGeom>
          <a:solidFill>
            <a:srgbClr val="00b050">
              <a:alpha val="59000"/>
            </a:srgbClr>
          </a:solidFill>
          <a:ln w="46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Picture 7" descr="j0090572"/>
          <p:cNvPicPr/>
          <p:nvPr/>
        </p:nvPicPr>
        <p:blipFill>
          <a:blip r:embed="rId1"/>
          <a:stretch/>
        </p:blipFill>
        <p:spPr>
          <a:xfrm>
            <a:off x="3564000" y="4221000"/>
            <a:ext cx="2376360" cy="21369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8"/>
          <p:cNvSpPr/>
          <p:nvPr/>
        </p:nvSpPr>
        <p:spPr>
          <a:xfrm>
            <a:off x="3276720" y="371628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деятель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9"/>
          <p:cNvSpPr/>
          <p:nvPr/>
        </p:nvSpPr>
        <p:spPr>
          <a:xfrm>
            <a:off x="6516720" y="364500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езульт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0"/>
          <p:cNvSpPr/>
          <p:nvPr/>
        </p:nvSpPr>
        <p:spPr>
          <a:xfrm>
            <a:off x="1332000" y="3716280"/>
            <a:ext cx="18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Arial"/>
              </a:rPr>
              <a:t>расх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9" name="Picture 11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2" descr="CASHGIVE"/>
          <p:cNvPicPr/>
          <p:nvPr/>
        </p:nvPicPr>
        <p:blipFill>
          <a:blip r:embed="rId3"/>
          <a:stretch/>
        </p:blipFill>
        <p:spPr>
          <a:xfrm>
            <a:off x="826920" y="4365720"/>
            <a:ext cx="237672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епосредственная регистрация событий: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39492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Заранее определена процеду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ведения фиксируются в протоколе или дневнике по определенной систем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Неструктурируемое: ситуация заранее не определена; нет строго план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труктурируемо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Включенное – войти в среду и адаптироватьс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Простое – взгляд «со стороны»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истематическое/ Случайно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1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CCBD-1730-4F9A-BCEA-406DCBA5D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Picture 4" descr="j0331685"/>
          <p:cNvPicPr/>
          <p:nvPr/>
        </p:nvPicPr>
        <p:blipFill>
          <a:blip r:embed="rId1"/>
          <a:stretch/>
        </p:blipFill>
        <p:spPr>
          <a:xfrm>
            <a:off x="6948360" y="4005360"/>
            <a:ext cx="18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0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кус-группа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323640" y="119700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большая группа (6-12 человек)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ная тем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 30 минут до 2-х час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ждый отвечает на вопрос, дополняет друг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ди развивают свои взгляды с точки зрения взглядов друг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астники фокусируют важную тему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большое количество вопрос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EC50-3414-4480-A135-FD6A5145D3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4" descr="j0232383"/>
          <p:cNvPicPr/>
          <p:nvPr/>
        </p:nvPicPr>
        <p:blipFill>
          <a:blip r:embed="rId1"/>
          <a:stretch/>
        </p:blipFill>
        <p:spPr>
          <a:xfrm>
            <a:off x="6732720" y="0"/>
            <a:ext cx="22320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97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документов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Arial"/>
              </a:rPr>
              <a:t>Традиционный, классический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 – умственные операции по выявлению сути материала и интерпретации сведений, с определенной точки зре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Внешний анализ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Внутренний анализ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Arial"/>
              </a:rPr>
              <a:t>Формализованный, количественный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 (контент-анализ) – найти легко подсчитываемые признаки, черты, свойства документа (частота употребления), которые отражали бы определенные существенные стороны содержания текста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31C3-1C8D-4F74-A81C-F4AA6DF09B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4" descr="j0341504"/>
          <p:cNvPicPr/>
          <p:nvPr/>
        </p:nvPicPr>
        <p:blipFill>
          <a:blip r:embed="rId1"/>
          <a:stretch/>
        </p:blipFill>
        <p:spPr>
          <a:xfrm>
            <a:off x="5148360" y="2338560"/>
            <a:ext cx="39956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0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ы, определяющие выбор методов сбора информации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611280" y="177336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трат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требность в обучении методу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ероятность получения ответ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рок выполнения рабо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Предполагаемая)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ъективность результат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3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2303-141D-4B54-9979-1AA5E8B62B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4"/>
          <p:cNvSpPr/>
          <p:nvPr/>
        </p:nvSpPr>
        <p:spPr>
          <a:xfrm>
            <a:off x="7315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5" name="Object 5"/>
          <p:cNvGraphicFramePr/>
          <p:nvPr/>
        </p:nvGraphicFramePr>
        <p:xfrm>
          <a:off x="6012000" y="3716280"/>
          <a:ext cx="24080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716280"/>
                    <a:ext cx="24080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262626"/>
                </a:solidFill>
                <a:latin typeface="Arial"/>
              </a:rPr>
              <a:t>Количественное исследование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60948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риентировано на проверку гипоте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ледует традиционной естественнонаучной модели исследований (экспериментальный дизайн, статистические методы анализа данных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Акцент на стандартизацию, точность, объективность, надежность, воспроизводимос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Сохранение заданного заранее «фокуса» исследован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9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5142-F92C-411C-B573-5FD2414B68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0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262626"/>
                </a:solidFill>
                <a:latin typeface="Arial"/>
              </a:rPr>
              <a:t>Качественное исследование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609480" y="112500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Проводится в естественных условия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Использует исследователя как основной «инструмент» сбора и анализа данны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риентировано на выработку подробного («плотного») описан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Направлено на изучение как результата, так и процесс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Предполагает разнообразные методы сбора данных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собенно часто – наблюдение и интервью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104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сновано на индуктивном подходе к анализу данных (от частного к общему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2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47C9-007B-4658-BA91-B860FE7D3C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0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Arial"/>
              </a:rPr>
              <a:t>Выборка в качественном исследовании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584280" y="2209320"/>
            <a:ext cx="734040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Репрезентативнос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5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AB69-CDCC-4F62-9B56-89D8361D89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4"/>
          <p:cNvSpPr/>
          <p:nvPr/>
        </p:nvSpPr>
        <p:spPr>
          <a:xfrm>
            <a:off x="914400" y="251460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5"/>
          <p:cNvSpPr/>
          <p:nvPr/>
        </p:nvSpPr>
        <p:spPr>
          <a:xfrm>
            <a:off x="609480" y="35812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СООБРАЗ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и каких людей необходимо опросить, чтобы хорошо понять интересующее нас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4F8B-E358-4D8D-AA4B-9AB756A3DF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2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66f54"/>
                </a:solidFill>
                <a:latin typeface="Arial"/>
              </a:rPr>
              <a:t>Примеры целесообразной выбор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3"/>
          <p:cNvSpPr/>
          <p:nvPr/>
        </p:nvSpPr>
        <p:spPr>
          <a:xfrm>
            <a:off x="60948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и, характеризующиеся высокой интенсивностью (либо экстрем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ка с максимально возможным разнообраз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нежный 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подтверждающих и опровергающих случ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0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262626"/>
                </a:solidFill>
                <a:latin typeface="Arial"/>
              </a:rPr>
              <a:t>Как избежать субъективности?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2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96B0-4F12-4B57-BC8A-2DA11F12D9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3"/>
          <p:cNvSpPr/>
          <p:nvPr/>
        </p:nvSpPr>
        <p:spPr>
          <a:xfrm>
            <a:off x="762120" y="5257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66f54"/>
                </a:solidFill>
                <a:latin typeface="Arial"/>
              </a:rPr>
              <a:t>Как остаться нейтральным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 Box 4"/>
          <p:cNvSpPr/>
          <p:nvPr/>
        </p:nvSpPr>
        <p:spPr>
          <a:xfrm>
            <a:off x="5796000" y="28195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йтр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 Box 5"/>
          <p:cNvSpPr/>
          <p:nvPr/>
        </p:nvSpPr>
        <p:spPr>
          <a:xfrm>
            <a:off x="3506400" y="441792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 Box 6"/>
          <p:cNvSpPr/>
          <p:nvPr/>
        </p:nvSpPr>
        <p:spPr>
          <a:xfrm>
            <a:off x="3505320" y="159876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 Box 7"/>
          <p:cNvSpPr/>
          <p:nvPr/>
        </p:nvSpPr>
        <p:spPr>
          <a:xfrm>
            <a:off x="1154880" y="284328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взя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AutoShape 8"/>
          <p:cNvSpPr/>
          <p:nvPr/>
        </p:nvSpPr>
        <p:spPr>
          <a:xfrm>
            <a:off x="4191120" y="2209680"/>
            <a:ext cx="685800" cy="1981440"/>
          </a:xfrm>
          <a:prstGeom prst="upDownArrow">
            <a:avLst>
              <a:gd name="adj1" fmla="val 50000"/>
              <a:gd name="adj2" fmla="val 5751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9"/>
          <p:cNvSpPr/>
          <p:nvPr/>
        </p:nvSpPr>
        <p:spPr>
          <a:xfrm>
            <a:off x="3352680" y="1523880"/>
            <a:ext cx="243864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AutoShape 10"/>
          <p:cNvSpPr/>
          <p:nvPr/>
        </p:nvSpPr>
        <p:spPr>
          <a:xfrm rot="16200000">
            <a:off x="4228920" y="2171160"/>
            <a:ext cx="685800" cy="1981440"/>
          </a:xfrm>
          <a:prstGeom prst="upDownArrow">
            <a:avLst>
              <a:gd name="adj1" fmla="val 50000"/>
              <a:gd name="adj2" fmla="val 5751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0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1980-CFB5-4616-B2B0-8268C06D77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2"/>
          <p:cNvSpPr/>
          <p:nvPr/>
        </p:nvSpPr>
        <p:spPr>
          <a:xfrm>
            <a:off x="83808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Arial"/>
              </a:rPr>
              <a:t>В какой мере можно доверять полученным дан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3" name="Picture 3" descr="BD05219_"/>
          <p:cNvPicPr/>
          <p:nvPr/>
        </p:nvPicPr>
        <p:blipFill>
          <a:blip r:embed="rId1"/>
          <a:stretch/>
        </p:blipFill>
        <p:spPr>
          <a:xfrm>
            <a:off x="1143000" y="1981080"/>
            <a:ext cx="1066680" cy="998640"/>
          </a:xfrm>
          <a:prstGeom prst="rect">
            <a:avLst/>
          </a:prstGeom>
          <a:ln w="0">
            <a:noFill/>
          </a:ln>
        </p:spPr>
      </p:pic>
      <p:pic>
        <p:nvPicPr>
          <p:cNvPr id="1694" name="Picture 4" descr="BL00393_"/>
          <p:cNvPicPr/>
          <p:nvPr/>
        </p:nvPicPr>
        <p:blipFill>
          <a:blip r:embed="rId2"/>
          <a:stretch/>
        </p:blipFill>
        <p:spPr>
          <a:xfrm>
            <a:off x="6705720" y="2514600"/>
            <a:ext cx="744480" cy="94464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5" descr="PE03254_"/>
          <p:cNvPicPr/>
          <p:nvPr/>
        </p:nvPicPr>
        <p:blipFill>
          <a:blip r:embed="rId3"/>
          <a:stretch/>
        </p:blipFill>
        <p:spPr>
          <a:xfrm>
            <a:off x="2819520" y="5334120"/>
            <a:ext cx="1066680" cy="96192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6" descr="BD06663_"/>
          <p:cNvPicPr/>
          <p:nvPr/>
        </p:nvPicPr>
        <p:blipFill>
          <a:blip r:embed="rId4"/>
          <a:stretch/>
        </p:blipFill>
        <p:spPr>
          <a:xfrm>
            <a:off x="3200400" y="2666880"/>
            <a:ext cx="1879560" cy="1630440"/>
          </a:xfrm>
          <a:prstGeom prst="rect">
            <a:avLst/>
          </a:prstGeom>
          <a:ln w="0">
            <a:noFill/>
          </a:ln>
        </p:spPr>
      </p:pic>
      <p:sp>
        <p:nvSpPr>
          <p:cNvPr id="1697" name="Line 7"/>
          <p:cNvSpPr/>
          <p:nvPr/>
        </p:nvSpPr>
        <p:spPr>
          <a:xfrm flipV="1">
            <a:off x="3581280" y="4191120"/>
            <a:ext cx="12956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8"/>
          <p:cNvSpPr/>
          <p:nvPr/>
        </p:nvSpPr>
        <p:spPr>
          <a:xfrm>
            <a:off x="2057400" y="2971800"/>
            <a:ext cx="2971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9"/>
          <p:cNvSpPr/>
          <p:nvPr/>
        </p:nvSpPr>
        <p:spPr>
          <a:xfrm flipH="1">
            <a:off x="4571640" y="3505320"/>
            <a:ext cx="213372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10"/>
          <p:cNvSpPr/>
          <p:nvPr/>
        </p:nvSpPr>
        <p:spPr>
          <a:xfrm>
            <a:off x="5181120" y="4572000"/>
            <a:ext cx="3010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ИАНГУЛЯЦ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следоват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0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8875-06B6-4E22-A841-DC9FB4053F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727280" y="33336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ИНСТРУМЕНТЫ КОНТРОЛ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-360" y="3254040"/>
            <a:ext cx="319716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254061"/>
                </a:solidFill>
                <a:latin typeface="Tahoma"/>
              </a:rPr>
              <a:t>Мониторинг. </a:t>
            </a:r>
            <a:endParaRPr b="0" lang="en-US" sz="33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254061"/>
                </a:solidFill>
                <a:latin typeface="Tahoma"/>
              </a:rPr>
              <a:t>Оценка.</a:t>
            </a:r>
            <a:r>
              <a:rPr b="1" lang="ru-RU" sz="1700" spc="-1" strike="noStrike">
                <a:solidFill>
                  <a:srgbClr val="25406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84" name="Picture 4" descr="астролябия licod25b"/>
          <p:cNvPicPr/>
          <p:nvPr/>
        </p:nvPicPr>
        <p:blipFill>
          <a:blip r:embed="rId1"/>
          <a:stretch/>
        </p:blipFill>
        <p:spPr>
          <a:xfrm>
            <a:off x="4786200" y="2071800"/>
            <a:ext cx="38512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501-396C-467B-9894-04826B453D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2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AFA0-47F0-4F97-9BE0-BB0955EEFE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нализ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6" name="Group 3"/>
          <p:cNvGrpSpPr/>
          <p:nvPr/>
        </p:nvGrpSpPr>
        <p:grpSpPr>
          <a:xfrm>
            <a:off x="1219320" y="838080"/>
            <a:ext cx="7162560" cy="5257440"/>
            <a:chOff x="1219320" y="838080"/>
            <a:chExt cx="7162560" cy="5257440"/>
          </a:xfrm>
        </p:grpSpPr>
        <p:sp>
          <p:nvSpPr>
            <p:cNvPr id="1707" name="Rectangle 4"/>
            <p:cNvSpPr/>
            <p:nvPr/>
          </p:nvSpPr>
          <p:spPr>
            <a:xfrm>
              <a:off x="1219320" y="838080"/>
              <a:ext cx="3622320" cy="9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ученные данные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ы, свидетельства, эмпирические результаты, то, что мы узна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5"/>
            <p:cNvSpPr/>
            <p:nvPr/>
          </p:nvSpPr>
          <p:spPr>
            <a:xfrm>
              <a:off x="4841640" y="838080"/>
              <a:ext cx="2185920" cy="9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6"/>
            <p:cNvSpPr/>
            <p:nvPr/>
          </p:nvSpPr>
          <p:spPr>
            <a:xfrm>
              <a:off x="7027920" y="838080"/>
              <a:ext cx="1353960" cy="9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7"/>
            <p:cNvSpPr/>
            <p:nvPr/>
          </p:nvSpPr>
          <p:spPr>
            <a:xfrm>
              <a:off x="1219320" y="1759320"/>
              <a:ext cx="1458360" cy="12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8"/>
            <p:cNvSpPr/>
            <p:nvPr/>
          </p:nvSpPr>
          <p:spPr>
            <a:xfrm>
              <a:off x="2677680" y="1759320"/>
              <a:ext cx="4349880" cy="12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претации (объяснения)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ъяснение полученных данных, взаимосвязей между ними, объяснение причи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9"/>
            <p:cNvSpPr/>
            <p:nvPr/>
          </p:nvSpPr>
          <p:spPr>
            <a:xfrm>
              <a:off x="7027920" y="1759320"/>
              <a:ext cx="1353960" cy="12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0"/>
            <p:cNvSpPr/>
            <p:nvPr/>
          </p:nvSpPr>
          <p:spPr>
            <a:xfrm>
              <a:off x="1219320" y="2965320"/>
              <a:ext cx="1458360" cy="12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1"/>
            <p:cNvSpPr/>
            <p:nvPr/>
          </p:nvSpPr>
          <p:spPr>
            <a:xfrm>
              <a:off x="2677680" y="2965320"/>
              <a:ext cx="2075040" cy="12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2"/>
            <p:cNvSpPr/>
            <p:nvPr/>
          </p:nvSpPr>
          <p:spPr>
            <a:xfrm>
              <a:off x="4753080" y="2965320"/>
              <a:ext cx="3628440" cy="12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воды (заключения,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уждения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начение полученных данных – хорошо или плохо, мало или много, позитивно или негативно, в желательном или нежелательном направлени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13"/>
            <p:cNvSpPr/>
            <p:nvPr/>
          </p:nvSpPr>
          <p:spPr>
            <a:xfrm>
              <a:off x="1219320" y="4241520"/>
              <a:ext cx="1458360" cy="18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4"/>
            <p:cNvSpPr/>
            <p:nvPr/>
          </p:nvSpPr>
          <p:spPr>
            <a:xfrm>
              <a:off x="2677680" y="4241520"/>
              <a:ext cx="2075040" cy="18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5"/>
            <p:cNvSpPr/>
            <p:nvPr/>
          </p:nvSpPr>
          <p:spPr>
            <a:xfrm>
              <a:off x="4753080" y="4241520"/>
              <a:ext cx="1236960" cy="18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16"/>
            <p:cNvSpPr/>
            <p:nvPr/>
          </p:nvSpPr>
          <p:spPr>
            <a:xfrm>
              <a:off x="5990040" y="4241520"/>
              <a:ext cx="2304000" cy="18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2280" bIns="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Рекоменд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лагаемые направления действий, предлагаемые изменения в программ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чего не следует менять, советы все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з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интересованным сторона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72DD-FB7F-4973-85B0-D522A269C6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1" name="Object 2"/>
          <p:cNvGraphicFramePr/>
          <p:nvPr/>
        </p:nvGraphicFramePr>
        <p:xfrm>
          <a:off x="1073160" y="420840"/>
          <a:ext cx="699912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20840"/>
                    <a:ext cx="699912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EF66-F332-44F8-AE49-BFC77428DB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2"/>
          <p:cNvSpPr/>
          <p:nvPr/>
        </p:nvSpPr>
        <p:spPr>
          <a:xfrm>
            <a:off x="684360" y="6206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Arial"/>
              </a:rPr>
              <a:t>Характеристики хорошего от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3"/>
          <p:cNvSpPr/>
          <p:nvPr/>
        </p:nvSpPr>
        <p:spPr>
          <a:xfrm>
            <a:off x="900000" y="1963800"/>
            <a:ext cx="784872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2700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от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2700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тная и обоснованная метод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2700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2700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ий фо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 txBox="1"/>
          <p:nvPr/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Arial"/>
              </a:rPr>
              <a:t>«</a:t>
            </a:r>
            <a:r>
              <a:rPr b="0" i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ценка программы/проекта 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– это систематический сбор информации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 деятельности в рамках программы, ее характеристиках  и результатах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</a:rPr>
              <a:t>к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торый проводится для того, чтобы вынести суждение о программе,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овысить эффективность программы и/или разработать планы на будуще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</a:rPr>
              <a:t>»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(Patton, 1997)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6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E076-9544-499F-B21B-FDBF0FE621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D7ED-3775-46F3-86DB-F587087A1D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AutoShape 2"/>
          <p:cNvSpPr/>
          <p:nvPr/>
        </p:nvSpPr>
        <p:spPr>
          <a:xfrm rot="16252200">
            <a:off x="4914720" y="1942920"/>
            <a:ext cx="2666880" cy="289548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3720 h 2895480"/>
              <a:gd name="textAreaBottom" fmla="*/ 2471760 h 289548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9311"/>
                  <a:pt x="15575" y="7889"/>
                  <a:pt x="14490" y="6870"/>
                </a:cubicBezTo>
                <a:lnTo>
                  <a:pt x="18193" y="2927"/>
                </a:lnTo>
                <a:cubicBezTo>
                  <a:pt x="20367" y="4968"/>
                  <a:pt x="21600" y="7818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AutoShape 3"/>
          <p:cNvSpPr/>
          <p:nvPr/>
        </p:nvSpPr>
        <p:spPr>
          <a:xfrm flipH="1" rot="5541000">
            <a:off x="1865880" y="1942920"/>
            <a:ext cx="2666880" cy="289584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4080 h 2895840"/>
              <a:gd name="textAreaBottom" fmla="*/ 2471760 h 289584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9311"/>
                  <a:pt x="15575" y="7889"/>
                  <a:pt x="14490" y="6870"/>
                </a:cubicBezTo>
                <a:lnTo>
                  <a:pt x="18193" y="2927"/>
                </a:lnTo>
                <a:cubicBezTo>
                  <a:pt x="20367" y="4968"/>
                  <a:pt x="21600" y="7818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AutoShape 4"/>
          <p:cNvSpPr/>
          <p:nvPr/>
        </p:nvSpPr>
        <p:spPr>
          <a:xfrm rot="14037000">
            <a:off x="4490640" y="2291760"/>
            <a:ext cx="2676600" cy="2857320"/>
          </a:xfrm>
          <a:custGeom>
            <a:avLst/>
            <a:gdLst>
              <a:gd name="textAreaLeft" fmla="*/ 391680 w 2676600"/>
              <a:gd name="textAreaRight" fmla="*/ 2284920 w 2676600"/>
              <a:gd name="textAreaTop" fmla="*/ 418320 h 2857320"/>
              <a:gd name="textAreaBottom" fmla="*/ 2439000 h 285732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7822"/>
                  <a:pt x="13777" y="5409"/>
                  <a:pt x="10800" y="5409"/>
                </a:cubicBezTo>
                <a:cubicBezTo>
                  <a:pt x="9814" y="5408"/>
                  <a:pt x="8848" y="5678"/>
                  <a:pt x="8006" y="6189"/>
                </a:cubicBezTo>
                <a:lnTo>
                  <a:pt x="5202" y="1563"/>
                </a:lnTo>
                <a:cubicBezTo>
                  <a:pt x="6890" y="540"/>
                  <a:pt x="88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5"/>
          <p:cNvSpPr/>
          <p:nvPr/>
        </p:nvSpPr>
        <p:spPr>
          <a:xfrm flipH="1" rot="7563000">
            <a:off x="2324160" y="2247840"/>
            <a:ext cx="2666880" cy="289584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4080 h 2895840"/>
              <a:gd name="textAreaBottom" fmla="*/ 2471760 h 289584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7822"/>
                  <a:pt x="13777" y="5409"/>
                  <a:pt x="10800" y="5409"/>
                </a:cubicBezTo>
                <a:cubicBezTo>
                  <a:pt x="9814" y="5408"/>
                  <a:pt x="8848" y="5678"/>
                  <a:pt x="8006" y="6189"/>
                </a:cubicBezTo>
                <a:lnTo>
                  <a:pt x="5202" y="1563"/>
                </a:lnTo>
                <a:cubicBezTo>
                  <a:pt x="6890" y="540"/>
                  <a:pt x="88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AutoShape 6"/>
          <p:cNvSpPr/>
          <p:nvPr/>
        </p:nvSpPr>
        <p:spPr>
          <a:xfrm flipH="1" rot="13704600">
            <a:off x="1789560" y="2628720"/>
            <a:ext cx="2666880" cy="289548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3720 h 2895480"/>
              <a:gd name="textAreaBottom" fmla="*/ 2471760 h 289548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9311"/>
                  <a:pt x="15575" y="7889"/>
                  <a:pt x="14490" y="6870"/>
                </a:cubicBezTo>
                <a:lnTo>
                  <a:pt x="18193" y="2927"/>
                </a:lnTo>
                <a:cubicBezTo>
                  <a:pt x="20367" y="4968"/>
                  <a:pt x="21600" y="7818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fb4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7"/>
          <p:cNvSpPr/>
          <p:nvPr/>
        </p:nvSpPr>
        <p:spPr>
          <a:xfrm rot="7895400">
            <a:off x="5067360" y="2628720"/>
            <a:ext cx="2666880" cy="2895840"/>
          </a:xfrm>
          <a:custGeom>
            <a:avLst/>
            <a:gdLst>
              <a:gd name="textAreaLeft" fmla="*/ 390240 w 2666880"/>
              <a:gd name="textAreaRight" fmla="*/ 2276640 w 2666880"/>
              <a:gd name="textAreaTop" fmla="*/ 424080 h 2895840"/>
              <a:gd name="textAreaBottom" fmla="*/ 2471760 h 2895840"/>
            </a:gdLst>
            <a:ahLst/>
            <a:rect l="textAreaLeft" t="textAreaTop" r="textAreaRight" b="textAreaBottom"/>
            <a:pathLst>
              <a:path w="21600" h="21600">
                <a:moveTo>
                  <a:pt x="16190" y="10817"/>
                </a:moveTo>
                <a:cubicBezTo>
                  <a:pt x="16190" y="10811"/>
                  <a:pt x="16191" y="10805"/>
                  <a:pt x="16191" y="10800"/>
                </a:cubicBezTo>
                <a:cubicBezTo>
                  <a:pt x="16191" y="9311"/>
                  <a:pt x="15575" y="7889"/>
                  <a:pt x="14490" y="6870"/>
                </a:cubicBezTo>
                <a:lnTo>
                  <a:pt x="18193" y="2927"/>
                </a:lnTo>
                <a:cubicBezTo>
                  <a:pt x="20367" y="4968"/>
                  <a:pt x="21600" y="7818"/>
                  <a:pt x="21600" y="10800"/>
                </a:cubicBezTo>
                <a:cubicBezTo>
                  <a:pt x="21600" y="10812"/>
                  <a:pt x="21599" y="10824"/>
                  <a:pt x="21599" y="10836"/>
                </a:cubicBezTo>
                <a:lnTo>
                  <a:pt x="24299" y="10845"/>
                </a:lnTo>
                <a:lnTo>
                  <a:pt x="18876" y="16232"/>
                </a:lnTo>
                <a:lnTo>
                  <a:pt x="13490" y="10808"/>
                </a:lnTo>
                <a:lnTo>
                  <a:pt x="16190" y="10817"/>
                </a:lnTo>
                <a:close/>
              </a:path>
            </a:pathLst>
          </a:custGeom>
          <a:solidFill>
            <a:srgbClr val="fb4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1371240" y="555480"/>
            <a:ext cx="179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5236560" y="512640"/>
            <a:ext cx="34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3890520" y="3581280"/>
            <a:ext cx="18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2895480" y="571500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ТАНОВКА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3736440" y="16002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536040" y="1828800"/>
            <a:ext cx="193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рин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7165080" y="198108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о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6783840" y="4267080"/>
            <a:ext cx="215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ширить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глуб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ющ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688320" y="4343400"/>
            <a:ext cx="201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ринят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8962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entury Gothic"/>
              </a:rPr>
              <a:t>Оценка</a:t>
            </a:r>
            <a:r>
              <a:rPr b="0" lang="ru-RU" sz="3100" spc="-1" strike="noStrike">
                <a:solidFill>
                  <a:srgbClr val="003366"/>
                </a:solidFill>
                <a:latin typeface="Century Gothic"/>
              </a:rPr>
              <a:t>:</a:t>
            </a:r>
            <a:endParaRPr b="0" lang="en-US" sz="31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178920" y="907920"/>
            <a:ext cx="87361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пределение достоинства или ценности программ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истематический сбор информации для заранее определенных пользователей, с заранее определенными целями по широкому кругу вопросов, связанных с программой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змерение результатов программы и сопоставление их с задачами, которые эта программа должна реш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редство содействия последующему принятию решений  относительно программы, а также  улучшению процесса разработки программ в будуще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5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EBB9-8BD5-4567-BFDA-3F4118390F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6:26:15Z</dcterms:created>
  <dc:creator>Alex</dc:creator>
  <dc:description/>
  <dc:language>en-US</dc:language>
  <cp:lastModifiedBy>User146-01</cp:lastModifiedBy>
  <dcterms:modified xsi:type="dcterms:W3CDTF">2025-01-17T11:42:52Z</dcterms:modified>
  <cp:revision>34</cp:revision>
  <dc:subject/>
  <dc:title>Оценка программ</dc:title>
</cp:coreProperties>
</file>